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23.png" ContentType="image/png"/>
  <Override PartName="/ppt/media/image9.jpeg" ContentType="image/jpe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jpeg" ContentType="image/jpeg"/>
  <Override PartName="/ppt/media/image25.png" ContentType="image/png"/>
  <Override PartName="/ppt/media/image22.wmf" ContentType="image/x-wmf"/>
  <Override PartName="/ppt/media/image20.wmf" ContentType="image/x-wmf"/>
  <Override PartName="/ppt/media/image21.png" ContentType="image/png"/>
  <Override PartName="/ppt/media/image19.png" ContentType="image/png"/>
  <Override PartName="/ppt/media/image18.png" ContentType="image/png"/>
  <Override PartName="/ppt/media/image15.jpeg" ContentType="image/jpeg"/>
  <Override PartName="/ppt/media/image16.png" ContentType="image/png"/>
  <Override PartName="/ppt/media/image14.png" ContentType="image/png"/>
  <Override PartName="/ppt/media/image3.png" ContentType="image/png"/>
  <Override PartName="/ppt/media/image26.png" ContentType="image/png"/>
  <Override PartName="/ppt/media/image17.jpeg" ContentType="image/jpeg"/>
  <Override PartName="/ppt/media/image1.png" ContentType="image/png"/>
  <Override PartName="/ppt/media/image24.png" ContentType="image/png"/>
  <Override PartName="/ppt/media/image2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ill Sans MT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28105-95DE-4947-9363-7EE65B0B78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8E580-C8B5-4757-96E0-2C4FB00F52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6A515-BCF5-4D6A-9C71-AF18709F58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409CE-3CB0-4784-8D3C-00C6799747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4A670-A1CD-4E26-BFE0-25254F2E5E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4B267-9A4F-49EE-BAEE-89D990AC49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8FB6D-376F-4213-895C-C9E7C2F6BF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CEAC6-CC52-44E3-9408-1710CE9884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39FF4-8A51-44B1-A2ED-1DBBA47901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A3DD9-1A3D-48FE-AB75-D386EDCD9B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F55B1-A0AE-4E67-8ED0-2701A88805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1741D-22EE-4076-B617-B88709F95A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543A6-726C-46A4-9A38-C9AD5304F7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F9F4F-2498-42A3-B554-2DB920C290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4A0B2-937D-4B5C-BE11-E77C12CF45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C2672-3369-444D-882F-1438923EA7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F3446-6966-4D3B-9865-DD108397C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8D8E1-3433-4794-A1F3-057490C38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214724-CBE1-4741-A3BC-5AD998E72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E76B75-0A01-4BB1-92E2-82BB21304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9979B5-972B-46FA-9A25-1A0BCB101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D62DF0-1D67-410B-988D-3AFA1848B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1BFF96-075C-456A-A742-353FD434A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99E4DF-3A1A-40AA-AF4B-015884F25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E30C8B-44FD-4290-88E0-C17F1CF6D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63CB73-4CCF-42BE-A7B1-D4148F133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E1FCC7-C6FC-4289-B27D-5E0395D68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BD2A69-4E77-4A5C-B100-4523B4AFF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0CDA1-AE58-4CA9-AB6D-7B8B295FD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37FB76-36BB-4470-846D-ABC4F2B3F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9B00D5-7B86-48A3-8128-2AB7BFD7E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0E71F9-C0F8-4CED-BD5A-722DE9957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1BE45D-881B-4902-B5D5-AFABA4B96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A8C9C5-4D9D-4F58-8027-2A3058E3B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62E28D-0138-4A31-BBA3-C60FBF6CE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FCC088-A9E7-465C-BE01-B228103D1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B2FF7B-C42F-45F5-877A-F53284339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BB4247-ADD3-481D-B0BB-277E186BA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B249AF-701C-487C-A80E-D9E6F2AD9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10519-F706-4F65-8D31-CC3BEF292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F2CDAC-F9C4-4526-828A-39BD4F763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C91B56-5D07-41E9-8BF0-B4F133D22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3A2F10-8C13-459C-B0AB-FEAA3E452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740765-419F-45E0-B8A5-8DC87ADEF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556961-E0F6-48B0-9F9B-E9D2BF267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1751DB-9B9B-43CA-B457-CB0333F49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A07822-2EBD-47F1-90C2-3E02ADE53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825CD5-4E22-4611-8531-E5A7F89DD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CDEFC6-0537-45A5-A330-AB9F7FEAB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9B3587-3D20-499D-B087-AA94363D5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977FA-7F74-4706-896B-DA6E0AC76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1BC3B7-98CA-4B3B-ACFE-0C4E4C957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AF79F4-1629-46B4-99CC-D5F30AF52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CFBFD0-1EC0-4C1A-A320-01494B339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669BCC-2E74-4816-9E5B-5EA731334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52632A-FA73-41A3-9E6B-44A0230C0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8369FA-7B87-4B10-83B5-336A8F891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86E707-5725-41D8-9655-9F14A761A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8EAC10-5845-42DB-B57C-00F3EDFA2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4B2651-E5F0-4489-B792-3770B5D03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2717DB-8F02-41F5-B973-EC87317D2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72417-17B6-45F3-9853-2226675A5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1FF349-2EA3-46FC-B89A-D7167BFC9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357AAE-4C7D-401A-AB8B-A2A5095CA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54B840-D726-4287-BFAF-C66714B18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6A0D91-945E-4F2A-9133-5516233C6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F7F260-3D04-42F2-81DF-0BCFB6601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AD6EC-FC4C-4173-B9DE-84B10BE45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E35AA-AD1C-41DF-8AC2-D221E10AC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C8641-10EF-49E9-BCB2-8AC1C9C76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35A6C-42FE-4B51-A4FD-D3AB7D809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31704-6922-40F6-A0BD-A9E5D112D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68247-98E1-41CE-AC95-23D3C0226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C0750-E4FC-4F82-B7F6-B566572B3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3EC72-8A3F-407B-A5CE-297C43571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E88A4-17A6-42DE-AB3B-8A76B97A3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C8B8C-4272-4E1B-8503-8152C2995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45794-FB37-4C6D-BE6D-D322EDD96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4AF210-423C-40ED-8662-6CEB961FA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D7CC4A-48E9-4DF0-BB41-2B71A64E6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6A15ED-5AB7-49F6-9F2D-FA20DA766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C88BDF-A656-4D68-BD0A-F35351804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D81B28-E6E0-4FA0-BA7B-5C8EA2F41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8C17F-073B-407A-BC2D-8E0B18943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9DFBC1-BF09-4A6C-86FB-92EA739C2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F28F66-ABCC-435E-BD38-C97AA0B38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DE3EE3-1FBB-4295-AC06-FB7D6E253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51846A-8FAA-4E6E-86C2-20F51947D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F8207C-3050-4EC5-9C84-B640D306F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DEBFDA-9AD8-4FB2-97AE-15AEA223C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21E923-4711-4716-B4E8-B528B1606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3980BA-9788-42B9-9114-AC74B3C88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257115-7E85-4A0B-9EB6-123A86637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16109F-3E4F-45BB-AA7C-7FBE7F1E5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4F9F3-C103-4022-BBF8-1179893F4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A8161D-FE48-495D-87A8-39D871D97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313A8F-2587-4A30-AC73-CEFF6BEB7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2BD62E-485A-408A-848F-CABD89818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9F5C4E-E9C7-43F1-97EC-24D35B34A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601C4F-687C-46DE-B946-7C2F35C73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18D46F-385E-40EC-B9C0-E3252A18B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AFB5E9-A125-48D6-AB6B-740DA4EDD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0199A7-495D-4943-BC1A-162A1FF20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EA8673-596A-430C-BD4A-7E01F777F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A24BC7-A9A8-44CF-AD63-C8ECDCACB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0E949-DF4F-4E75-A3AE-559E7D5F4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EC1497-13FC-445A-95CA-BCE43F6AF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90BA0A-C7FF-49EE-9CA3-EB1747279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F20126-353D-4C0B-9DA7-4B713B715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B9AFFE-942F-420E-B38A-493D2C7AC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F1DCBC-AFF1-48E5-A366-EA8744B59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B009F4-7335-4493-A512-D3CE9A033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5A8033-E6D0-4BD2-8E81-3A9243338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FE1D57-1BD8-4F21-8A7A-C8AD95E57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D6ADEC-A9D1-470D-9089-D7194119F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BD0D3C-A0B9-41D5-A25D-476544E24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28862-6B01-4C22-A757-0F1C7748B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31C53A-32C1-40E0-8F14-1BD66748B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3AAC06-E47B-4EF6-A9F4-620BE3388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C1F77F-6C64-494B-975C-CE91771E5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1EBF4B-91BF-439B-A230-E7B7650D4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8A5E8D-F084-4F5D-A8D6-02974DB94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F59BA9-43F7-44AC-A0D9-E0AF6DE9E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1DFCD3-8109-4896-9C81-0242DEE5D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D612C7-F375-434A-B657-37D3160E6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CDC5AB-9449-48C1-B0F7-8C8A66A9A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AB6A7D-ABBB-4FE2-9BB1-B98FF6145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BDC4E-8732-4FB0-A825-FF1076D45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6AA3E1-C6B9-4B40-A361-75D444C98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0AFEEA-5115-42A9-B527-C79E512F9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B1621A-17BD-45CF-9EA2-C8588B79E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CA15B5-9665-447C-8E99-B1E9C917B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7F5BCD-CC36-47A1-8F26-703FEEEEA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58845D-A0DD-40F5-8DD1-8BD022513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5E836C-9D4C-441C-89A1-09C8BC114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C153F1-E4ED-4637-B906-5422975D3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87473F-CAEA-49DD-833C-7D575ABA2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F5179A-5964-43FF-B7BB-D7924698F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3A06C-24BE-4B2C-AE7F-5722231FA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529A5D-9773-49BA-A1DE-838D49C75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631C95-614F-49F5-B144-B3BE57712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FC9E40-050B-439F-A61C-2CAF18984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481AD6-DA76-4DAE-986F-4D0A1A2CD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35EB80-F97A-4DD5-9B49-4DA0CF777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7F03E9-DE14-4A4C-A2CF-5643972B2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00D374-3A60-4CD9-BB6D-A35654AB5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73CB5D-1300-49F8-A07E-9875B9EC0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2CF43C-41FC-4D43-B8AD-CE1281691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4D4746-3447-496C-9C4F-69C195577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46C41-BDD0-4346-B26F-856A5DE08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745506-C6EB-422A-91D1-0E22EB5E8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63EE21-1350-4910-966C-B94F8E197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3CD27F-D68E-4692-9386-5932E736E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C5D014-8BC6-4097-8E82-E14450E92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1DD7C6-0FAD-4413-95DB-CEF809229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4185DA-A318-4B76-B1A8-B8CCA07F1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62107B-1117-43FC-9901-C24BCD2CF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B4F5F6-B5A2-4807-962F-77F52B2BD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3918CC-3241-4469-B9FF-CBC18CD8F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B321A1-F78B-4BB0-92E7-89E96CB92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cb7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-12600" y="0"/>
            <a:ext cx="9150120" cy="6291360"/>
            <a:chOff x="-12600" y="0"/>
            <a:chExt cx="9150120" cy="6291360"/>
          </a:xfrm>
        </p:grpSpPr>
        <p:pic>
          <p:nvPicPr>
            <p:cNvPr id="1" name="Rectangle 6" descr=""/>
            <p:cNvPicPr/>
            <p:nvPr/>
          </p:nvPicPr>
          <p:blipFill>
            <a:blip r:embed="rId2"/>
            <a:stretch/>
          </p:blipFill>
          <p:spPr>
            <a:xfrm>
              <a:off x="-12600" y="0"/>
              <a:ext cx="9150120" cy="629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-6480" y="0"/>
              <a:ext cx="9144000" cy="628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36b3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799"/>
              </a:spcBef>
              <a:buClr>
                <a:srgbClr val="108bb4"/>
              </a:buClr>
              <a:buSzPct val="6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spcBef>
                <a:spcPts val="799"/>
              </a:spcBef>
              <a:buClr>
                <a:srgbClr val="da7328"/>
              </a:buClr>
              <a:buSzPct val="57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spcBef>
                <a:spcPts val="799"/>
              </a:spcBef>
              <a:buClr>
                <a:srgbClr val="ae589f"/>
              </a:buClr>
              <a:buSzPct val="55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spcBef>
                <a:spcPts val="799"/>
              </a:spcBef>
              <a:buClr>
                <a:srgbClr val="77b559"/>
              </a:buClr>
              <a:buSzPct val="5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57396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46044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4F0AC-6ABE-429B-8EFB-F48625A7072E}" type="slidenum">
              <a:rPr b="0" lang="en-US" sz="1200" spc="-1" strike="noStrike">
                <a:solidFill>
                  <a:srgbClr val="000000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cb7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6" name="Rectangle 6"/>
          <p:cNvGrpSpPr/>
          <p:nvPr/>
        </p:nvGrpSpPr>
        <p:grpSpPr>
          <a:xfrm>
            <a:off x="-12600" y="0"/>
            <a:ext cx="9150120" cy="6291360"/>
            <a:chOff x="-12600" y="0"/>
            <a:chExt cx="9150120" cy="6291360"/>
          </a:xfrm>
        </p:grpSpPr>
        <p:pic>
          <p:nvPicPr>
            <p:cNvPr id="437" name="Rectangle 6" descr=""/>
            <p:cNvPicPr/>
            <p:nvPr/>
          </p:nvPicPr>
          <p:blipFill>
            <a:blip r:embed="rId2"/>
            <a:stretch/>
          </p:blipFill>
          <p:spPr>
            <a:xfrm>
              <a:off x="-12600" y="0"/>
              <a:ext cx="9150120" cy="629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8" name=""/>
            <p:cNvSpPr/>
            <p:nvPr/>
          </p:nvSpPr>
          <p:spPr>
            <a:xfrm>
              <a:off x="-6480" y="0"/>
              <a:ext cx="9144000" cy="628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9" name="Group 15"/>
          <p:cNvGrpSpPr/>
          <p:nvPr/>
        </p:nvGrpSpPr>
        <p:grpSpPr>
          <a:xfrm>
            <a:off x="-9360" y="-19080"/>
            <a:ext cx="9144000" cy="147600"/>
            <a:chOff x="-9360" y="-19080"/>
            <a:chExt cx="9144000" cy="147600"/>
          </a:xfrm>
        </p:grpSpPr>
        <p:sp>
          <p:nvSpPr>
            <p:cNvPr id="440" name="Rectangle 9"/>
            <p:cNvSpPr/>
            <p:nvPr/>
          </p:nvSpPr>
          <p:spPr>
            <a:xfrm>
              <a:off x="-9360" y="-19080"/>
              <a:ext cx="9144000" cy="147600"/>
            </a:xfrm>
            <a:prstGeom prst="rect">
              <a:avLst/>
            </a:prstGeom>
            <a:solidFill>
              <a:srgbClr val="0428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Rectangle 10"/>
            <p:cNvSpPr/>
            <p:nvPr/>
          </p:nvSpPr>
          <p:spPr>
            <a:xfrm>
              <a:off x="5486760" y="-19080"/>
              <a:ext cx="1096920" cy="147600"/>
            </a:xfrm>
            <a:prstGeom prst="rect">
              <a:avLst/>
            </a:prstGeom>
            <a:solidFill>
              <a:srgbClr val="3f9e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Rectangle 11"/>
            <p:cNvSpPr/>
            <p:nvPr/>
          </p:nvSpPr>
          <p:spPr>
            <a:xfrm>
              <a:off x="6583680" y="-19080"/>
              <a:ext cx="1096920" cy="147600"/>
            </a:xfrm>
            <a:prstGeom prst="rect">
              <a:avLst/>
            </a:prstGeom>
            <a:solidFill>
              <a:srgbClr val="77b5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Rectangle 12"/>
            <p:cNvSpPr/>
            <p:nvPr/>
          </p:nvSpPr>
          <p:spPr>
            <a:xfrm>
              <a:off x="7680600" y="-19080"/>
              <a:ext cx="1096920" cy="147600"/>
            </a:xfrm>
            <a:prstGeom prst="rect">
              <a:avLst/>
            </a:prstGeom>
            <a:solidFill>
              <a:srgbClr val="e4a8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4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36b3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799"/>
              </a:spcBef>
              <a:buClr>
                <a:srgbClr val="108bb4"/>
              </a:buClr>
              <a:buSzPct val="6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spcBef>
                <a:spcPts val="799"/>
              </a:spcBef>
              <a:buClr>
                <a:srgbClr val="da7328"/>
              </a:buClr>
              <a:buSzPct val="57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spcBef>
                <a:spcPts val="799"/>
              </a:spcBef>
              <a:buClr>
                <a:srgbClr val="ae589f"/>
              </a:buClr>
              <a:buSzPct val="55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spcBef>
                <a:spcPts val="799"/>
              </a:spcBef>
              <a:buClr>
                <a:srgbClr val="77b559"/>
              </a:buClr>
              <a:buSzPct val="5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 type="dt" idx="28"/>
          </p:nvPr>
        </p:nvSpPr>
        <p:spPr>
          <a:xfrm>
            <a:off x="657396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 type="sldNum" idx="30"/>
          </p:nvPr>
        </p:nvSpPr>
        <p:spPr>
          <a:xfrm>
            <a:off x="46044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DABC5-8B98-4BB3-86CB-1B94DD92E204}" type="slidenum">
              <a:rPr b="0" lang="en-US" sz="1200" spc="-1" strike="noStrike">
                <a:solidFill>
                  <a:srgbClr val="000000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5" name="Rectangle 6"/>
          <p:cNvGrpSpPr/>
          <p:nvPr/>
        </p:nvGrpSpPr>
        <p:grpSpPr>
          <a:xfrm>
            <a:off x="-12600" y="0"/>
            <a:ext cx="9150120" cy="6291360"/>
            <a:chOff x="-12600" y="0"/>
            <a:chExt cx="9150120" cy="6291360"/>
          </a:xfrm>
        </p:grpSpPr>
        <p:pic>
          <p:nvPicPr>
            <p:cNvPr id="486" name="Rectangle 6" descr=""/>
            <p:cNvPicPr/>
            <p:nvPr/>
          </p:nvPicPr>
          <p:blipFill>
            <a:blip r:embed="rId3"/>
            <a:stretch/>
          </p:blipFill>
          <p:spPr>
            <a:xfrm>
              <a:off x="-12600" y="0"/>
              <a:ext cx="9150120" cy="629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7" name=""/>
            <p:cNvSpPr/>
            <p:nvPr/>
          </p:nvSpPr>
          <p:spPr>
            <a:xfrm>
              <a:off x="-6480" y="0"/>
              <a:ext cx="9144000" cy="628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8" name="Group 7"/>
          <p:cNvGrpSpPr/>
          <p:nvPr/>
        </p:nvGrpSpPr>
        <p:grpSpPr>
          <a:xfrm>
            <a:off x="0" y="1371600"/>
            <a:ext cx="9144000" cy="73080"/>
            <a:chOff x="0" y="1371600"/>
            <a:chExt cx="9144000" cy="73080"/>
          </a:xfrm>
        </p:grpSpPr>
        <p:sp>
          <p:nvSpPr>
            <p:cNvPr id="489" name="Rectangle 9"/>
            <p:cNvSpPr/>
            <p:nvPr/>
          </p:nvSpPr>
          <p:spPr>
            <a:xfrm flipH="1">
              <a:off x="0" y="1371600"/>
              <a:ext cx="9144000" cy="73080"/>
            </a:xfrm>
            <a:prstGeom prst="rect">
              <a:avLst/>
            </a:prstGeom>
            <a:solidFill>
              <a:srgbClr val="0428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Rectangle 10"/>
            <p:cNvSpPr/>
            <p:nvPr/>
          </p:nvSpPr>
          <p:spPr>
            <a:xfrm flipH="1">
              <a:off x="2865240" y="1371600"/>
              <a:ext cx="1096920" cy="73080"/>
            </a:xfrm>
            <a:prstGeom prst="rect">
              <a:avLst/>
            </a:prstGeom>
            <a:solidFill>
              <a:srgbClr val="3f9e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Rectangle 11"/>
            <p:cNvSpPr/>
            <p:nvPr/>
          </p:nvSpPr>
          <p:spPr>
            <a:xfrm flipH="1">
              <a:off x="1767960" y="1371600"/>
              <a:ext cx="1096920" cy="73080"/>
            </a:xfrm>
            <a:prstGeom prst="rect">
              <a:avLst/>
            </a:prstGeom>
            <a:solidFill>
              <a:srgbClr val="77b5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Rectangle 12"/>
            <p:cNvSpPr/>
            <p:nvPr/>
          </p:nvSpPr>
          <p:spPr>
            <a:xfrm flipH="1">
              <a:off x="669600" y="1371600"/>
              <a:ext cx="1098360" cy="73080"/>
            </a:xfrm>
            <a:prstGeom prst="rect">
              <a:avLst/>
            </a:prstGeom>
            <a:solidFill>
              <a:srgbClr val="e4a8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36b3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799"/>
              </a:spcBef>
              <a:buClr>
                <a:srgbClr val="108bb4"/>
              </a:buClr>
              <a:buSzPct val="6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spcBef>
                <a:spcPts val="799"/>
              </a:spcBef>
              <a:buClr>
                <a:srgbClr val="da7328"/>
              </a:buClr>
              <a:buSzPct val="57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spcBef>
                <a:spcPts val="799"/>
              </a:spcBef>
              <a:buClr>
                <a:srgbClr val="ae589f"/>
              </a:buClr>
              <a:buSzPct val="55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spcBef>
                <a:spcPts val="799"/>
              </a:spcBef>
              <a:buClr>
                <a:srgbClr val="77b559"/>
              </a:buClr>
              <a:buSzPct val="5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dt" idx="31"/>
          </p:nvPr>
        </p:nvSpPr>
        <p:spPr>
          <a:xfrm>
            <a:off x="657396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sldNum" idx="33"/>
          </p:nvPr>
        </p:nvSpPr>
        <p:spPr>
          <a:xfrm>
            <a:off x="46044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244C3-8FD5-4A77-A3D1-7503E2DCDBB5}" type="slidenum">
              <a:rPr b="0" lang="en-US" sz="1200" spc="-1" strike="noStrike">
                <a:solidFill>
                  <a:srgbClr val="000000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cb7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4" name="Rectangle 6"/>
          <p:cNvGrpSpPr/>
          <p:nvPr/>
        </p:nvGrpSpPr>
        <p:grpSpPr>
          <a:xfrm>
            <a:off x="-12600" y="0"/>
            <a:ext cx="9150120" cy="6291360"/>
            <a:chOff x="-12600" y="0"/>
            <a:chExt cx="9150120" cy="6291360"/>
          </a:xfrm>
        </p:grpSpPr>
        <p:pic>
          <p:nvPicPr>
            <p:cNvPr id="535" name="Rectangle 6" descr=""/>
            <p:cNvPicPr/>
            <p:nvPr/>
          </p:nvPicPr>
          <p:blipFill>
            <a:blip r:embed="rId2"/>
            <a:stretch/>
          </p:blipFill>
          <p:spPr>
            <a:xfrm>
              <a:off x="-12600" y="0"/>
              <a:ext cx="9150120" cy="629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6" name=""/>
            <p:cNvSpPr/>
            <p:nvPr/>
          </p:nvSpPr>
          <p:spPr>
            <a:xfrm>
              <a:off x="-6480" y="0"/>
              <a:ext cx="9144000" cy="628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7" name="Group 8"/>
          <p:cNvGrpSpPr/>
          <p:nvPr/>
        </p:nvGrpSpPr>
        <p:grpSpPr>
          <a:xfrm>
            <a:off x="6729120" y="-12600"/>
            <a:ext cx="73080" cy="6867360"/>
            <a:chOff x="6729120" y="-12600"/>
            <a:chExt cx="73080" cy="6867360"/>
          </a:xfrm>
        </p:grpSpPr>
        <p:sp>
          <p:nvSpPr>
            <p:cNvPr id="538" name="Rectangle 9"/>
            <p:cNvSpPr/>
            <p:nvPr/>
          </p:nvSpPr>
          <p:spPr>
            <a:xfrm flipH="1" rot="5400000">
              <a:off x="3332160" y="3385080"/>
              <a:ext cx="6867360" cy="71640"/>
            </a:xfrm>
            <a:prstGeom prst="rect">
              <a:avLst/>
            </a:prstGeom>
            <a:solidFill>
              <a:srgbClr val="0428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Rectangle 10"/>
            <p:cNvSpPr/>
            <p:nvPr/>
          </p:nvSpPr>
          <p:spPr>
            <a:xfrm flipH="1" rot="5400000">
              <a:off x="6351840" y="2513880"/>
              <a:ext cx="825480" cy="71640"/>
            </a:xfrm>
            <a:prstGeom prst="rect">
              <a:avLst/>
            </a:prstGeom>
            <a:solidFill>
              <a:srgbClr val="3f9e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Rectangle 11"/>
            <p:cNvSpPr/>
            <p:nvPr/>
          </p:nvSpPr>
          <p:spPr>
            <a:xfrm flipH="1" rot="5400000">
              <a:off x="6352560" y="1688760"/>
              <a:ext cx="823680" cy="71640"/>
            </a:xfrm>
            <a:prstGeom prst="rect">
              <a:avLst/>
            </a:prstGeom>
            <a:solidFill>
              <a:srgbClr val="77b5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Rectangle 12"/>
            <p:cNvSpPr/>
            <p:nvPr/>
          </p:nvSpPr>
          <p:spPr>
            <a:xfrm flipH="1" rot="5400000">
              <a:off x="6352560" y="865080"/>
              <a:ext cx="823680" cy="71640"/>
            </a:xfrm>
            <a:prstGeom prst="rect">
              <a:avLst/>
            </a:prstGeom>
            <a:solidFill>
              <a:srgbClr val="e4a8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36b3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799"/>
              </a:spcBef>
              <a:buClr>
                <a:srgbClr val="108bb4"/>
              </a:buClr>
              <a:buSzPct val="6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spcBef>
                <a:spcPts val="799"/>
              </a:spcBef>
              <a:buClr>
                <a:srgbClr val="da7328"/>
              </a:buClr>
              <a:buSzPct val="57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spcBef>
                <a:spcPts val="799"/>
              </a:spcBef>
              <a:buClr>
                <a:srgbClr val="ae589f"/>
              </a:buClr>
              <a:buSzPct val="55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spcBef>
                <a:spcPts val="799"/>
              </a:spcBef>
              <a:buClr>
                <a:srgbClr val="77b559"/>
              </a:buClr>
              <a:buSzPct val="5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34"/>
          </p:nvPr>
        </p:nvSpPr>
        <p:spPr>
          <a:xfrm>
            <a:off x="6838920" y="6356520"/>
            <a:ext cx="1868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6"/>
          </p:nvPr>
        </p:nvSpPr>
        <p:spPr>
          <a:xfrm>
            <a:off x="46044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8348B-E2F1-4533-86D1-B1D7ED7E481D}" type="slidenum">
              <a:rPr b="0" lang="en-US" sz="1200" spc="-1" strike="noStrike">
                <a:solidFill>
                  <a:srgbClr val="000000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ectangle 6"/>
          <p:cNvGrpSpPr/>
          <p:nvPr/>
        </p:nvGrpSpPr>
        <p:grpSpPr>
          <a:xfrm>
            <a:off x="-12600" y="0"/>
            <a:ext cx="9150120" cy="6291360"/>
            <a:chOff x="-12600" y="0"/>
            <a:chExt cx="9150120" cy="6291360"/>
          </a:xfrm>
        </p:grpSpPr>
        <p:pic>
          <p:nvPicPr>
            <p:cNvPr id="45" name="Rectangle 6" descr=""/>
            <p:cNvPicPr/>
            <p:nvPr/>
          </p:nvPicPr>
          <p:blipFill>
            <a:blip r:embed="rId3"/>
            <a:stretch/>
          </p:blipFill>
          <p:spPr>
            <a:xfrm>
              <a:off x="-12600" y="0"/>
              <a:ext cx="9150120" cy="629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-6480" y="0"/>
              <a:ext cx="9144000" cy="628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" name="Group 16"/>
          <p:cNvGrpSpPr/>
          <p:nvPr/>
        </p:nvGrpSpPr>
        <p:grpSpPr>
          <a:xfrm>
            <a:off x="0" y="3268800"/>
            <a:ext cx="9144000" cy="145800"/>
            <a:chOff x="0" y="3268800"/>
            <a:chExt cx="9144000" cy="145800"/>
          </a:xfrm>
        </p:grpSpPr>
        <p:sp>
          <p:nvSpPr>
            <p:cNvPr id="48" name="Rectangle 9"/>
            <p:cNvSpPr/>
            <p:nvPr/>
          </p:nvSpPr>
          <p:spPr>
            <a:xfrm>
              <a:off x="0" y="3268800"/>
              <a:ext cx="9144000" cy="145800"/>
            </a:xfrm>
            <a:prstGeom prst="rect">
              <a:avLst/>
            </a:prstGeom>
            <a:solidFill>
              <a:srgbClr val="0428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Rectangle 10"/>
            <p:cNvSpPr/>
            <p:nvPr/>
          </p:nvSpPr>
          <p:spPr>
            <a:xfrm>
              <a:off x="5181480" y="3268800"/>
              <a:ext cx="1096920" cy="145800"/>
            </a:xfrm>
            <a:prstGeom prst="rect">
              <a:avLst/>
            </a:prstGeom>
            <a:solidFill>
              <a:srgbClr val="3f9e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Rectangle 11"/>
            <p:cNvSpPr/>
            <p:nvPr/>
          </p:nvSpPr>
          <p:spPr>
            <a:xfrm>
              <a:off x="6278760" y="3268800"/>
              <a:ext cx="1096920" cy="145800"/>
            </a:xfrm>
            <a:prstGeom prst="rect">
              <a:avLst/>
            </a:prstGeom>
            <a:solidFill>
              <a:srgbClr val="77b5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Rectangle 12"/>
            <p:cNvSpPr/>
            <p:nvPr/>
          </p:nvSpPr>
          <p:spPr>
            <a:xfrm>
              <a:off x="7375680" y="3268800"/>
              <a:ext cx="1098360" cy="145800"/>
            </a:xfrm>
            <a:prstGeom prst="rect">
              <a:avLst/>
            </a:prstGeom>
            <a:solidFill>
              <a:srgbClr val="e4a8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36b3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799"/>
              </a:spcBef>
              <a:buClr>
                <a:srgbClr val="108bb4"/>
              </a:buClr>
              <a:buSzPct val="6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spcBef>
                <a:spcPts val="799"/>
              </a:spcBef>
              <a:buClr>
                <a:srgbClr val="da7328"/>
              </a:buClr>
              <a:buSzPct val="57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spcBef>
                <a:spcPts val="799"/>
              </a:spcBef>
              <a:buClr>
                <a:srgbClr val="ae589f"/>
              </a:buClr>
              <a:buSzPct val="55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spcBef>
                <a:spcPts val="799"/>
              </a:spcBef>
              <a:buClr>
                <a:srgbClr val="77b559"/>
              </a:buClr>
              <a:buSzPct val="5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657396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46044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9DF21-0C8F-476D-8500-4BD3317FB7B8}" type="slidenum">
              <a:rPr b="0" lang="en-US" sz="1200" spc="-1" strike="noStrike">
                <a:solidFill>
                  <a:srgbClr val="000000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cb7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Rectangle 6"/>
          <p:cNvGrpSpPr/>
          <p:nvPr/>
        </p:nvGrpSpPr>
        <p:grpSpPr>
          <a:xfrm>
            <a:off x="-12600" y="0"/>
            <a:ext cx="9150120" cy="6291360"/>
            <a:chOff x="-12600" y="0"/>
            <a:chExt cx="9150120" cy="6291360"/>
          </a:xfrm>
        </p:grpSpPr>
        <p:pic>
          <p:nvPicPr>
            <p:cNvPr id="94" name="Rectangle 6" descr=""/>
            <p:cNvPicPr/>
            <p:nvPr/>
          </p:nvPicPr>
          <p:blipFill>
            <a:blip r:embed="rId2"/>
            <a:stretch/>
          </p:blipFill>
          <p:spPr>
            <a:xfrm>
              <a:off x="-12600" y="0"/>
              <a:ext cx="9150120" cy="629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/>
            <p:nvPr/>
          </p:nvSpPr>
          <p:spPr>
            <a:xfrm>
              <a:off x="-6480" y="0"/>
              <a:ext cx="9144000" cy="628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Group 13"/>
          <p:cNvGrpSpPr/>
          <p:nvPr/>
        </p:nvGrpSpPr>
        <p:grpSpPr>
          <a:xfrm>
            <a:off x="0" y="1371600"/>
            <a:ext cx="9144000" cy="73080"/>
            <a:chOff x="0" y="1371600"/>
            <a:chExt cx="9144000" cy="73080"/>
          </a:xfrm>
        </p:grpSpPr>
        <p:sp>
          <p:nvSpPr>
            <p:cNvPr id="97" name="Rectangle 9"/>
            <p:cNvSpPr/>
            <p:nvPr/>
          </p:nvSpPr>
          <p:spPr>
            <a:xfrm>
              <a:off x="0" y="1371600"/>
              <a:ext cx="9144000" cy="73080"/>
            </a:xfrm>
            <a:prstGeom prst="rect">
              <a:avLst/>
            </a:prstGeom>
            <a:solidFill>
              <a:srgbClr val="0428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Rectangle 10"/>
            <p:cNvSpPr/>
            <p:nvPr/>
          </p:nvSpPr>
          <p:spPr>
            <a:xfrm>
              <a:off x="5181480" y="1371600"/>
              <a:ext cx="1096920" cy="73080"/>
            </a:xfrm>
            <a:prstGeom prst="rect">
              <a:avLst/>
            </a:prstGeom>
            <a:solidFill>
              <a:srgbClr val="3f9e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Rectangle 11"/>
            <p:cNvSpPr/>
            <p:nvPr/>
          </p:nvSpPr>
          <p:spPr>
            <a:xfrm>
              <a:off x="6278760" y="1371600"/>
              <a:ext cx="1096920" cy="73080"/>
            </a:xfrm>
            <a:prstGeom prst="rect">
              <a:avLst/>
            </a:prstGeom>
            <a:solidFill>
              <a:srgbClr val="77b5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Rectangle 12"/>
            <p:cNvSpPr/>
            <p:nvPr/>
          </p:nvSpPr>
          <p:spPr>
            <a:xfrm>
              <a:off x="7375680" y="1371600"/>
              <a:ext cx="1098360" cy="73080"/>
            </a:xfrm>
            <a:prstGeom prst="rect">
              <a:avLst/>
            </a:prstGeom>
            <a:solidFill>
              <a:srgbClr val="e4a8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36b3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799"/>
              </a:spcBef>
              <a:buClr>
                <a:srgbClr val="108bb4"/>
              </a:buClr>
              <a:buSzPct val="6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spcBef>
                <a:spcPts val="799"/>
              </a:spcBef>
              <a:buClr>
                <a:srgbClr val="da7328"/>
              </a:buClr>
              <a:buSzPct val="57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spcBef>
                <a:spcPts val="799"/>
              </a:spcBef>
              <a:buClr>
                <a:srgbClr val="ae589f"/>
              </a:buClr>
              <a:buSzPct val="55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spcBef>
                <a:spcPts val="799"/>
              </a:spcBef>
              <a:buClr>
                <a:srgbClr val="77b559"/>
              </a:buClr>
              <a:buSzPct val="5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657396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46044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D5210-5CF1-45C3-B681-3564B2602F76}" type="slidenum">
              <a:rPr b="0" lang="en-US" sz="1200" spc="-1" strike="noStrike">
                <a:solidFill>
                  <a:srgbClr val="000000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cb7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Rectangle 6"/>
          <p:cNvGrpSpPr/>
          <p:nvPr/>
        </p:nvGrpSpPr>
        <p:grpSpPr>
          <a:xfrm>
            <a:off x="-12600" y="0"/>
            <a:ext cx="9150120" cy="6291360"/>
            <a:chOff x="-12600" y="0"/>
            <a:chExt cx="9150120" cy="6291360"/>
          </a:xfrm>
        </p:grpSpPr>
        <p:pic>
          <p:nvPicPr>
            <p:cNvPr id="143" name="Rectangle 6" descr=""/>
            <p:cNvPicPr/>
            <p:nvPr/>
          </p:nvPicPr>
          <p:blipFill>
            <a:blip r:embed="rId2"/>
            <a:stretch/>
          </p:blipFill>
          <p:spPr>
            <a:xfrm>
              <a:off x="-12600" y="0"/>
              <a:ext cx="9150120" cy="629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-6480" y="0"/>
              <a:ext cx="9144000" cy="628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Group 12"/>
          <p:cNvGrpSpPr/>
          <p:nvPr/>
        </p:nvGrpSpPr>
        <p:grpSpPr>
          <a:xfrm>
            <a:off x="0" y="4229280"/>
            <a:ext cx="9144000" cy="145800"/>
            <a:chOff x="0" y="4229280"/>
            <a:chExt cx="9144000" cy="145800"/>
          </a:xfrm>
        </p:grpSpPr>
        <p:sp>
          <p:nvSpPr>
            <p:cNvPr id="146" name="Rectangle 9"/>
            <p:cNvSpPr/>
            <p:nvPr/>
          </p:nvSpPr>
          <p:spPr>
            <a:xfrm flipH="1">
              <a:off x="0" y="4229280"/>
              <a:ext cx="9144000" cy="145800"/>
            </a:xfrm>
            <a:prstGeom prst="rect">
              <a:avLst/>
            </a:prstGeom>
            <a:solidFill>
              <a:srgbClr val="0428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Rectangle 10"/>
            <p:cNvSpPr/>
            <p:nvPr/>
          </p:nvSpPr>
          <p:spPr>
            <a:xfrm flipH="1">
              <a:off x="2865240" y="4229280"/>
              <a:ext cx="1096920" cy="145800"/>
            </a:xfrm>
            <a:prstGeom prst="rect">
              <a:avLst/>
            </a:prstGeom>
            <a:solidFill>
              <a:srgbClr val="3f9e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Rectangle 11"/>
            <p:cNvSpPr/>
            <p:nvPr/>
          </p:nvSpPr>
          <p:spPr>
            <a:xfrm flipH="1">
              <a:off x="1767960" y="4229280"/>
              <a:ext cx="1096920" cy="145800"/>
            </a:xfrm>
            <a:prstGeom prst="rect">
              <a:avLst/>
            </a:prstGeom>
            <a:solidFill>
              <a:srgbClr val="77b5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Rectangle 12"/>
            <p:cNvSpPr/>
            <p:nvPr/>
          </p:nvSpPr>
          <p:spPr>
            <a:xfrm flipH="1">
              <a:off x="669600" y="4229280"/>
              <a:ext cx="1098360" cy="145800"/>
            </a:xfrm>
            <a:prstGeom prst="rect">
              <a:avLst/>
            </a:prstGeom>
            <a:solidFill>
              <a:srgbClr val="e4a8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36b3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799"/>
              </a:spcBef>
              <a:buClr>
                <a:srgbClr val="108bb4"/>
              </a:buClr>
              <a:buSzPct val="6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spcBef>
                <a:spcPts val="799"/>
              </a:spcBef>
              <a:buClr>
                <a:srgbClr val="da7328"/>
              </a:buClr>
              <a:buSzPct val="57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spcBef>
                <a:spcPts val="799"/>
              </a:spcBef>
              <a:buClr>
                <a:srgbClr val="ae589f"/>
              </a:buClr>
              <a:buSzPct val="55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spcBef>
                <a:spcPts val="799"/>
              </a:spcBef>
              <a:buClr>
                <a:srgbClr val="77b559"/>
              </a:buClr>
              <a:buSzPct val="5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657396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46044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AC078-9931-470F-8FEC-6FDA27DB0471}" type="slidenum">
              <a:rPr b="0" lang="en-US" sz="1200" spc="-1" strike="noStrike">
                <a:solidFill>
                  <a:srgbClr val="000000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cb7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1" name="Rectangle 6"/>
          <p:cNvGrpSpPr/>
          <p:nvPr/>
        </p:nvGrpSpPr>
        <p:grpSpPr>
          <a:xfrm>
            <a:off x="-12600" y="0"/>
            <a:ext cx="9150120" cy="6291360"/>
            <a:chOff x="-12600" y="0"/>
            <a:chExt cx="9150120" cy="6291360"/>
          </a:xfrm>
        </p:grpSpPr>
        <p:pic>
          <p:nvPicPr>
            <p:cNvPr id="192" name="Rectangle 6" descr=""/>
            <p:cNvPicPr/>
            <p:nvPr/>
          </p:nvPicPr>
          <p:blipFill>
            <a:blip r:embed="rId2"/>
            <a:stretch/>
          </p:blipFill>
          <p:spPr>
            <a:xfrm>
              <a:off x="-12600" y="0"/>
              <a:ext cx="9150120" cy="629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3" name=""/>
            <p:cNvSpPr/>
            <p:nvPr/>
          </p:nvSpPr>
          <p:spPr>
            <a:xfrm>
              <a:off x="-6480" y="0"/>
              <a:ext cx="9144000" cy="628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" name="Group 14"/>
          <p:cNvGrpSpPr/>
          <p:nvPr/>
        </p:nvGrpSpPr>
        <p:grpSpPr>
          <a:xfrm>
            <a:off x="0" y="1371600"/>
            <a:ext cx="9144000" cy="73080"/>
            <a:chOff x="0" y="1371600"/>
            <a:chExt cx="9144000" cy="73080"/>
          </a:xfrm>
        </p:grpSpPr>
        <p:sp>
          <p:nvSpPr>
            <p:cNvPr id="195" name="Rectangle 9"/>
            <p:cNvSpPr/>
            <p:nvPr/>
          </p:nvSpPr>
          <p:spPr>
            <a:xfrm>
              <a:off x="0" y="1371600"/>
              <a:ext cx="9144000" cy="73080"/>
            </a:xfrm>
            <a:prstGeom prst="rect">
              <a:avLst/>
            </a:prstGeom>
            <a:solidFill>
              <a:srgbClr val="0428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Rectangle 10"/>
            <p:cNvSpPr/>
            <p:nvPr/>
          </p:nvSpPr>
          <p:spPr>
            <a:xfrm>
              <a:off x="5181480" y="1371600"/>
              <a:ext cx="1096920" cy="73080"/>
            </a:xfrm>
            <a:prstGeom prst="rect">
              <a:avLst/>
            </a:prstGeom>
            <a:solidFill>
              <a:srgbClr val="3f9e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Rectangle 11"/>
            <p:cNvSpPr/>
            <p:nvPr/>
          </p:nvSpPr>
          <p:spPr>
            <a:xfrm>
              <a:off x="6278760" y="1371600"/>
              <a:ext cx="1096920" cy="73080"/>
            </a:xfrm>
            <a:prstGeom prst="rect">
              <a:avLst/>
            </a:prstGeom>
            <a:solidFill>
              <a:srgbClr val="77b5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Rectangle 12"/>
            <p:cNvSpPr/>
            <p:nvPr/>
          </p:nvSpPr>
          <p:spPr>
            <a:xfrm>
              <a:off x="7375680" y="1371600"/>
              <a:ext cx="1098360" cy="73080"/>
            </a:xfrm>
            <a:prstGeom prst="rect">
              <a:avLst/>
            </a:prstGeom>
            <a:solidFill>
              <a:srgbClr val="e4a8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36b3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799"/>
              </a:spcBef>
              <a:buClr>
                <a:srgbClr val="108bb4"/>
              </a:buClr>
              <a:buSzPct val="6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spcBef>
                <a:spcPts val="799"/>
              </a:spcBef>
              <a:buClr>
                <a:srgbClr val="da7328"/>
              </a:buClr>
              <a:buSzPct val="57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spcBef>
                <a:spcPts val="799"/>
              </a:spcBef>
              <a:buClr>
                <a:srgbClr val="ae589f"/>
              </a:buClr>
              <a:buSzPct val="55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spcBef>
                <a:spcPts val="799"/>
              </a:spcBef>
              <a:buClr>
                <a:srgbClr val="77b559"/>
              </a:buClr>
              <a:buSzPct val="5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 type="dt" idx="13"/>
          </p:nvPr>
        </p:nvSpPr>
        <p:spPr>
          <a:xfrm>
            <a:off x="657396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 type="sldNum" idx="15"/>
          </p:nvPr>
        </p:nvSpPr>
        <p:spPr>
          <a:xfrm>
            <a:off x="46044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E215B-5BCF-4176-BD9B-759DF819A436}" type="slidenum">
              <a:rPr b="0" lang="en-US" sz="1200" spc="-1" strike="noStrike">
                <a:solidFill>
                  <a:srgbClr val="000000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cb7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0" name="Rectangle 6"/>
          <p:cNvGrpSpPr/>
          <p:nvPr/>
        </p:nvGrpSpPr>
        <p:grpSpPr>
          <a:xfrm>
            <a:off x="-12600" y="0"/>
            <a:ext cx="9150120" cy="6291360"/>
            <a:chOff x="-12600" y="0"/>
            <a:chExt cx="9150120" cy="6291360"/>
          </a:xfrm>
        </p:grpSpPr>
        <p:pic>
          <p:nvPicPr>
            <p:cNvPr id="241" name="Rectangle 6" descr=""/>
            <p:cNvPicPr/>
            <p:nvPr/>
          </p:nvPicPr>
          <p:blipFill>
            <a:blip r:embed="rId2"/>
            <a:stretch/>
          </p:blipFill>
          <p:spPr>
            <a:xfrm>
              <a:off x="-12600" y="0"/>
              <a:ext cx="9150120" cy="629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2" name=""/>
            <p:cNvSpPr/>
            <p:nvPr/>
          </p:nvSpPr>
          <p:spPr>
            <a:xfrm>
              <a:off x="-6480" y="0"/>
              <a:ext cx="9144000" cy="628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" name="Group 16"/>
          <p:cNvGrpSpPr/>
          <p:nvPr/>
        </p:nvGrpSpPr>
        <p:grpSpPr>
          <a:xfrm>
            <a:off x="0" y="1371600"/>
            <a:ext cx="9144000" cy="73080"/>
            <a:chOff x="0" y="1371600"/>
            <a:chExt cx="9144000" cy="73080"/>
          </a:xfrm>
        </p:grpSpPr>
        <p:sp>
          <p:nvSpPr>
            <p:cNvPr id="244" name="Rectangle 9"/>
            <p:cNvSpPr/>
            <p:nvPr/>
          </p:nvSpPr>
          <p:spPr>
            <a:xfrm>
              <a:off x="0" y="1371600"/>
              <a:ext cx="9144000" cy="73080"/>
            </a:xfrm>
            <a:prstGeom prst="rect">
              <a:avLst/>
            </a:prstGeom>
            <a:solidFill>
              <a:srgbClr val="0428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Rectangle 10"/>
            <p:cNvSpPr/>
            <p:nvPr/>
          </p:nvSpPr>
          <p:spPr>
            <a:xfrm>
              <a:off x="5181480" y="1371600"/>
              <a:ext cx="1096920" cy="73080"/>
            </a:xfrm>
            <a:prstGeom prst="rect">
              <a:avLst/>
            </a:prstGeom>
            <a:solidFill>
              <a:srgbClr val="3f9e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Rectangle 11"/>
            <p:cNvSpPr/>
            <p:nvPr/>
          </p:nvSpPr>
          <p:spPr>
            <a:xfrm>
              <a:off x="6278760" y="1371600"/>
              <a:ext cx="1096920" cy="73080"/>
            </a:xfrm>
            <a:prstGeom prst="rect">
              <a:avLst/>
            </a:prstGeom>
            <a:solidFill>
              <a:srgbClr val="77b5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Rectangle 12"/>
            <p:cNvSpPr/>
            <p:nvPr/>
          </p:nvSpPr>
          <p:spPr>
            <a:xfrm>
              <a:off x="7375680" y="1371600"/>
              <a:ext cx="1098360" cy="73080"/>
            </a:xfrm>
            <a:prstGeom prst="rect">
              <a:avLst/>
            </a:prstGeom>
            <a:solidFill>
              <a:srgbClr val="e4a8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8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36b3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799"/>
              </a:spcBef>
              <a:buClr>
                <a:srgbClr val="108bb4"/>
              </a:buClr>
              <a:buSzPct val="6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spcBef>
                <a:spcPts val="799"/>
              </a:spcBef>
              <a:buClr>
                <a:srgbClr val="da7328"/>
              </a:buClr>
              <a:buSzPct val="57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spcBef>
                <a:spcPts val="799"/>
              </a:spcBef>
              <a:buClr>
                <a:srgbClr val="ae589f"/>
              </a:buClr>
              <a:buSzPct val="55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spcBef>
                <a:spcPts val="799"/>
              </a:spcBef>
              <a:buClr>
                <a:srgbClr val="77b559"/>
              </a:buClr>
              <a:buSzPct val="5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dt" idx="16"/>
          </p:nvPr>
        </p:nvSpPr>
        <p:spPr>
          <a:xfrm>
            <a:off x="657396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 type="sldNum" idx="18"/>
          </p:nvPr>
        </p:nvSpPr>
        <p:spPr>
          <a:xfrm>
            <a:off x="46044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168AA-097A-415A-BC15-8C91D24D84DA}" type="slidenum">
              <a:rPr b="0" lang="en-US" sz="1200" spc="-1" strike="noStrike">
                <a:solidFill>
                  <a:srgbClr val="000000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cb7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9" name="Rectangle 6"/>
          <p:cNvGrpSpPr/>
          <p:nvPr/>
        </p:nvGrpSpPr>
        <p:grpSpPr>
          <a:xfrm>
            <a:off x="-12600" y="0"/>
            <a:ext cx="9150120" cy="6291360"/>
            <a:chOff x="-12600" y="0"/>
            <a:chExt cx="9150120" cy="6291360"/>
          </a:xfrm>
        </p:grpSpPr>
        <p:pic>
          <p:nvPicPr>
            <p:cNvPr id="290" name="Rectangle 6" descr=""/>
            <p:cNvPicPr/>
            <p:nvPr/>
          </p:nvPicPr>
          <p:blipFill>
            <a:blip r:embed="rId2"/>
            <a:stretch/>
          </p:blipFill>
          <p:spPr>
            <a:xfrm>
              <a:off x="-12600" y="0"/>
              <a:ext cx="9150120" cy="629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"/>
            <p:cNvSpPr/>
            <p:nvPr/>
          </p:nvSpPr>
          <p:spPr>
            <a:xfrm>
              <a:off x="-6480" y="0"/>
              <a:ext cx="9144000" cy="628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2" name="Group 12"/>
          <p:cNvGrpSpPr/>
          <p:nvPr/>
        </p:nvGrpSpPr>
        <p:grpSpPr>
          <a:xfrm>
            <a:off x="0" y="1371600"/>
            <a:ext cx="9144000" cy="73080"/>
            <a:chOff x="0" y="1371600"/>
            <a:chExt cx="9144000" cy="73080"/>
          </a:xfrm>
        </p:grpSpPr>
        <p:sp>
          <p:nvSpPr>
            <p:cNvPr id="293" name="Rectangle 9"/>
            <p:cNvSpPr/>
            <p:nvPr/>
          </p:nvSpPr>
          <p:spPr>
            <a:xfrm flipH="1">
              <a:off x="0" y="1371600"/>
              <a:ext cx="9144000" cy="73080"/>
            </a:xfrm>
            <a:prstGeom prst="rect">
              <a:avLst/>
            </a:prstGeom>
            <a:solidFill>
              <a:srgbClr val="0428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Rectangle 10"/>
            <p:cNvSpPr/>
            <p:nvPr/>
          </p:nvSpPr>
          <p:spPr>
            <a:xfrm flipH="1">
              <a:off x="2865240" y="1371600"/>
              <a:ext cx="1096920" cy="73080"/>
            </a:xfrm>
            <a:prstGeom prst="rect">
              <a:avLst/>
            </a:prstGeom>
            <a:solidFill>
              <a:srgbClr val="3f9e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Rectangle 11"/>
            <p:cNvSpPr/>
            <p:nvPr/>
          </p:nvSpPr>
          <p:spPr>
            <a:xfrm flipH="1">
              <a:off x="1767960" y="1371600"/>
              <a:ext cx="1096920" cy="73080"/>
            </a:xfrm>
            <a:prstGeom prst="rect">
              <a:avLst/>
            </a:prstGeom>
            <a:solidFill>
              <a:srgbClr val="77b5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Rectangle 12"/>
            <p:cNvSpPr/>
            <p:nvPr/>
          </p:nvSpPr>
          <p:spPr>
            <a:xfrm flipH="1">
              <a:off x="669600" y="1371600"/>
              <a:ext cx="1098360" cy="73080"/>
            </a:xfrm>
            <a:prstGeom prst="rect">
              <a:avLst/>
            </a:prstGeom>
            <a:solidFill>
              <a:srgbClr val="e4a8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7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36b3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799"/>
              </a:spcBef>
              <a:buClr>
                <a:srgbClr val="108bb4"/>
              </a:buClr>
              <a:buSzPct val="6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spcBef>
                <a:spcPts val="799"/>
              </a:spcBef>
              <a:buClr>
                <a:srgbClr val="da7328"/>
              </a:buClr>
              <a:buSzPct val="57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spcBef>
                <a:spcPts val="799"/>
              </a:spcBef>
              <a:buClr>
                <a:srgbClr val="ae589f"/>
              </a:buClr>
              <a:buSzPct val="55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spcBef>
                <a:spcPts val="799"/>
              </a:spcBef>
              <a:buClr>
                <a:srgbClr val="77b559"/>
              </a:buClr>
              <a:buSzPct val="5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dt" idx="19"/>
          </p:nvPr>
        </p:nvSpPr>
        <p:spPr>
          <a:xfrm>
            <a:off x="657396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 type="sldNum" idx="21"/>
          </p:nvPr>
        </p:nvSpPr>
        <p:spPr>
          <a:xfrm>
            <a:off x="46044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405DC-66CA-4126-AFE6-E711E8C87006}" type="slidenum">
              <a:rPr b="0" lang="en-US" sz="1200" spc="-1" strike="noStrike">
                <a:solidFill>
                  <a:srgbClr val="000000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8" name="Rectangle 6"/>
          <p:cNvGrpSpPr/>
          <p:nvPr/>
        </p:nvGrpSpPr>
        <p:grpSpPr>
          <a:xfrm>
            <a:off x="-12600" y="0"/>
            <a:ext cx="9150120" cy="6291360"/>
            <a:chOff x="-12600" y="0"/>
            <a:chExt cx="9150120" cy="6291360"/>
          </a:xfrm>
        </p:grpSpPr>
        <p:pic>
          <p:nvPicPr>
            <p:cNvPr id="339" name="Rectangle 6" descr=""/>
            <p:cNvPicPr/>
            <p:nvPr/>
          </p:nvPicPr>
          <p:blipFill>
            <a:blip r:embed="rId3"/>
            <a:stretch/>
          </p:blipFill>
          <p:spPr>
            <a:xfrm>
              <a:off x="-12600" y="0"/>
              <a:ext cx="9150120" cy="629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0" name=""/>
            <p:cNvSpPr/>
            <p:nvPr/>
          </p:nvSpPr>
          <p:spPr>
            <a:xfrm>
              <a:off x="-6480" y="0"/>
              <a:ext cx="9144000" cy="628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1" name="Group 10"/>
          <p:cNvGrpSpPr/>
          <p:nvPr/>
        </p:nvGrpSpPr>
        <p:grpSpPr>
          <a:xfrm>
            <a:off x="-9360" y="-19080"/>
            <a:ext cx="9144000" cy="147600"/>
            <a:chOff x="-9360" y="-19080"/>
            <a:chExt cx="9144000" cy="147600"/>
          </a:xfrm>
        </p:grpSpPr>
        <p:sp>
          <p:nvSpPr>
            <p:cNvPr id="342" name="Rectangle 9"/>
            <p:cNvSpPr/>
            <p:nvPr/>
          </p:nvSpPr>
          <p:spPr>
            <a:xfrm>
              <a:off x="-9360" y="-19080"/>
              <a:ext cx="9144000" cy="147600"/>
            </a:xfrm>
            <a:prstGeom prst="rect">
              <a:avLst/>
            </a:prstGeom>
            <a:solidFill>
              <a:srgbClr val="0428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Rectangle 10"/>
            <p:cNvSpPr/>
            <p:nvPr/>
          </p:nvSpPr>
          <p:spPr>
            <a:xfrm>
              <a:off x="5486760" y="-19080"/>
              <a:ext cx="1096920" cy="147600"/>
            </a:xfrm>
            <a:prstGeom prst="rect">
              <a:avLst/>
            </a:prstGeom>
            <a:solidFill>
              <a:srgbClr val="3f9e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Rectangle 11"/>
            <p:cNvSpPr/>
            <p:nvPr/>
          </p:nvSpPr>
          <p:spPr>
            <a:xfrm>
              <a:off x="6583680" y="-19080"/>
              <a:ext cx="1096920" cy="147600"/>
            </a:xfrm>
            <a:prstGeom prst="rect">
              <a:avLst/>
            </a:prstGeom>
            <a:solidFill>
              <a:srgbClr val="77b5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Rectangle 12"/>
            <p:cNvSpPr/>
            <p:nvPr/>
          </p:nvSpPr>
          <p:spPr>
            <a:xfrm>
              <a:off x="7680600" y="-19080"/>
              <a:ext cx="1096920" cy="147600"/>
            </a:xfrm>
            <a:prstGeom prst="rect">
              <a:avLst/>
            </a:prstGeom>
            <a:solidFill>
              <a:srgbClr val="e4a8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6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36b3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799"/>
              </a:spcBef>
              <a:buClr>
                <a:srgbClr val="108bb4"/>
              </a:buClr>
              <a:buSzPct val="6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spcBef>
                <a:spcPts val="799"/>
              </a:spcBef>
              <a:buClr>
                <a:srgbClr val="da7328"/>
              </a:buClr>
              <a:buSzPct val="57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spcBef>
                <a:spcPts val="799"/>
              </a:spcBef>
              <a:buClr>
                <a:srgbClr val="ae589f"/>
              </a:buClr>
              <a:buSzPct val="55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spcBef>
                <a:spcPts val="799"/>
              </a:spcBef>
              <a:buClr>
                <a:srgbClr val="77b559"/>
              </a:buClr>
              <a:buSzPct val="5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dt" idx="22"/>
          </p:nvPr>
        </p:nvSpPr>
        <p:spPr>
          <a:xfrm>
            <a:off x="657396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 type="sldNum" idx="24"/>
          </p:nvPr>
        </p:nvSpPr>
        <p:spPr>
          <a:xfrm>
            <a:off x="46044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034DD-9A41-44D9-AECC-611383817FF9}" type="slidenum">
              <a:rPr b="0" lang="en-US" sz="1200" spc="-1" strike="noStrike">
                <a:solidFill>
                  <a:srgbClr val="000000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cb7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7" name="Rectangle 6"/>
          <p:cNvGrpSpPr/>
          <p:nvPr/>
        </p:nvGrpSpPr>
        <p:grpSpPr>
          <a:xfrm>
            <a:off x="-12600" y="0"/>
            <a:ext cx="9150120" cy="6291360"/>
            <a:chOff x="-12600" y="0"/>
            <a:chExt cx="9150120" cy="6291360"/>
          </a:xfrm>
        </p:grpSpPr>
        <p:pic>
          <p:nvPicPr>
            <p:cNvPr id="388" name="Rectangle 6" descr=""/>
            <p:cNvPicPr/>
            <p:nvPr/>
          </p:nvPicPr>
          <p:blipFill>
            <a:blip r:embed="rId2"/>
            <a:stretch/>
          </p:blipFill>
          <p:spPr>
            <a:xfrm>
              <a:off x="-12600" y="0"/>
              <a:ext cx="9150120" cy="629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9" name=""/>
            <p:cNvSpPr/>
            <p:nvPr/>
          </p:nvSpPr>
          <p:spPr>
            <a:xfrm>
              <a:off x="-6480" y="0"/>
              <a:ext cx="9144000" cy="628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0" name="Group 13"/>
          <p:cNvGrpSpPr/>
          <p:nvPr/>
        </p:nvGrpSpPr>
        <p:grpSpPr>
          <a:xfrm>
            <a:off x="0" y="1143000"/>
            <a:ext cx="9144000" cy="73080"/>
            <a:chOff x="0" y="1143000"/>
            <a:chExt cx="9144000" cy="73080"/>
          </a:xfrm>
        </p:grpSpPr>
        <p:sp>
          <p:nvSpPr>
            <p:cNvPr id="391" name="Rectangle 9"/>
            <p:cNvSpPr/>
            <p:nvPr/>
          </p:nvSpPr>
          <p:spPr>
            <a:xfrm flipH="1">
              <a:off x="0" y="1143000"/>
              <a:ext cx="9144000" cy="73080"/>
            </a:xfrm>
            <a:prstGeom prst="rect">
              <a:avLst/>
            </a:prstGeom>
            <a:solidFill>
              <a:srgbClr val="0428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Rectangle 10"/>
            <p:cNvSpPr/>
            <p:nvPr/>
          </p:nvSpPr>
          <p:spPr>
            <a:xfrm flipH="1">
              <a:off x="2865240" y="1143000"/>
              <a:ext cx="1096920" cy="73080"/>
            </a:xfrm>
            <a:prstGeom prst="rect">
              <a:avLst/>
            </a:prstGeom>
            <a:solidFill>
              <a:srgbClr val="3f9e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Rectangle 11"/>
            <p:cNvSpPr/>
            <p:nvPr/>
          </p:nvSpPr>
          <p:spPr>
            <a:xfrm flipH="1">
              <a:off x="1767960" y="1143000"/>
              <a:ext cx="1096920" cy="73080"/>
            </a:xfrm>
            <a:prstGeom prst="rect">
              <a:avLst/>
            </a:prstGeom>
            <a:solidFill>
              <a:srgbClr val="77b5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Rectangle 12"/>
            <p:cNvSpPr/>
            <p:nvPr/>
          </p:nvSpPr>
          <p:spPr>
            <a:xfrm flipH="1">
              <a:off x="669600" y="1143000"/>
              <a:ext cx="1098360" cy="73080"/>
            </a:xfrm>
            <a:prstGeom prst="rect">
              <a:avLst/>
            </a:prstGeom>
            <a:solidFill>
              <a:srgbClr val="e4a8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5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36b3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799"/>
              </a:spcBef>
              <a:buClr>
                <a:srgbClr val="108bb4"/>
              </a:buClr>
              <a:buSzPct val="6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spcBef>
                <a:spcPts val="799"/>
              </a:spcBef>
              <a:buClr>
                <a:srgbClr val="da7328"/>
              </a:buClr>
              <a:buSzPct val="57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spcBef>
                <a:spcPts val="799"/>
              </a:spcBef>
              <a:buClr>
                <a:srgbClr val="ae589f"/>
              </a:buClr>
              <a:buSzPct val="55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spcBef>
                <a:spcPts val="799"/>
              </a:spcBef>
              <a:buClr>
                <a:srgbClr val="77b559"/>
              </a:buClr>
              <a:buSzPct val="5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 type="dt" idx="25"/>
          </p:nvPr>
        </p:nvSpPr>
        <p:spPr>
          <a:xfrm>
            <a:off x="657396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 type="sldNum" idx="27"/>
          </p:nvPr>
        </p:nvSpPr>
        <p:spPr>
          <a:xfrm>
            <a:off x="46044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57ACD-C542-4E3C-BDD8-E20F84307A1B}" type="slidenum">
              <a:rPr b="0" lang="en-US" sz="1200" spc="-1" strike="noStrike">
                <a:solidFill>
                  <a:srgbClr val="000000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Title 1" descr=""/>
          <p:cNvPicPr/>
          <p:nvPr/>
        </p:nvPicPr>
        <p:blipFill>
          <a:blip r:embed="rId1"/>
          <a:stretch/>
        </p:blipFill>
        <p:spPr>
          <a:xfrm>
            <a:off x="609480" y="1725480"/>
            <a:ext cx="7925040" cy="1567080"/>
          </a:xfrm>
          <a:prstGeom prst="rect">
            <a:avLst/>
          </a:prstGeom>
          <a:ln w="0">
            <a:noFill/>
          </a:ln>
        </p:spPr>
      </p:pic>
      <p:sp>
        <p:nvSpPr>
          <p:cNvPr id="591" name="PlaceHolder 1"/>
          <p:cNvSpPr>
            <a:spLocks noGrp="1"/>
          </p:cNvSpPr>
          <p:nvPr>
            <p:ph type="subTitle"/>
          </p:nvPr>
        </p:nvSpPr>
        <p:spPr>
          <a:xfrm>
            <a:off x="3200040" y="3505320"/>
            <a:ext cx="39625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or how we communicate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with one anothe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92" name="Picture 2" descr="C:\Users\Ed\AppData\Local\Microsoft\Windows\Temporary Internet Files\Content.IE5\FMUEA5JS\MPj04074050000[1].jpg"/>
          <p:cNvPicPr/>
          <p:nvPr/>
        </p:nvPicPr>
        <p:blipFill>
          <a:blip r:embed="rId2"/>
          <a:stretch/>
        </p:blipFill>
        <p:spPr>
          <a:xfrm>
            <a:off x="380880" y="3505320"/>
            <a:ext cx="2960640" cy="3200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"/>
          <p:cNvSpPr txBox="1"/>
          <p:nvPr/>
        </p:nvSpPr>
        <p:spPr>
          <a:xfrm>
            <a:off x="457200" y="150012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536b3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n conclusion…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spcBef>
                <a:spcPts val="799"/>
              </a:spcBef>
              <a:buClr>
                <a:srgbClr val="0536b3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ummarizing brings the main ideas into clear focus, and ends a conversation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spcBef>
                <a:spcPts val="799"/>
              </a:spcBef>
              <a:buClr>
                <a:srgbClr val="0536b3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Does not bring new ideas out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spcBef>
                <a:spcPts val="799"/>
              </a:spcBef>
              <a:buClr>
                <a:srgbClr val="0536b3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omeone summarize what we have learned so far…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spcBef>
                <a:spcPts val="799"/>
              </a:spcBef>
              <a:buClr>
                <a:srgbClr val="0536b3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Don</a:t>
            </a:r>
            <a:r>
              <a:rPr b="0" lang="ja-JP" sz="32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 get too excited, we still have some learning to do…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615" name="Title 2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5336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6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6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6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6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6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6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6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"/>
                                        <p:tgtEl>
                                          <p:spTgt spid="6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400" fill="hold"/>
                                        <p:tgtEl>
                                          <p:spTgt spid="6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400" fill="hold"/>
                                        <p:tgtEl>
                                          <p:spTgt spid="6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2" dur="2000"/>
                                        <p:tgtEl>
                                          <p:spTgt spid="6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"/>
          <p:cNvSpPr txBox="1"/>
          <p:nvPr/>
        </p:nvSpPr>
        <p:spPr>
          <a:xfrm>
            <a:off x="457200" y="150012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51"/>
              </a:spcBef>
              <a:buClr>
                <a:srgbClr val="0536b3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Do you have a friend who is just really bad at listening to you and understanding how you feel?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08520" indent="-308520">
              <a:lnSpc>
                <a:spcPct val="90000"/>
              </a:lnSpc>
              <a:spcBef>
                <a:spcPts val="751"/>
              </a:spcBef>
              <a:buClr>
                <a:srgbClr val="0536b3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We would say that they are not very empathetic.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08520" indent="-308520">
              <a:lnSpc>
                <a:spcPct val="90000"/>
              </a:lnSpc>
              <a:spcBef>
                <a:spcPts val="751"/>
              </a:spcBef>
              <a:buClr>
                <a:srgbClr val="0536b3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Not </a:t>
            </a:r>
            <a:r>
              <a:rPr b="0" lang="ja-JP" sz="3000" spc="-1" strike="noStrike">
                <a:solidFill>
                  <a:srgbClr val="000000"/>
                </a:solidFill>
                <a:latin typeface="Gill Sans MT"/>
              </a:rPr>
              <a:t>‘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pathetic</a:t>
            </a:r>
            <a:r>
              <a:rPr b="0" lang="ja-JP" sz="30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!  Empathetic!!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08520" indent="-308520">
              <a:lnSpc>
                <a:spcPct val="90000"/>
              </a:lnSpc>
              <a:spcBef>
                <a:spcPts val="751"/>
              </a:spcBef>
              <a:buClr>
                <a:srgbClr val="0536b3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This means that they do not recognize and connect with your feelings and emotions.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08520" indent="-308520">
              <a:lnSpc>
                <a:spcPct val="90000"/>
              </a:lnSpc>
              <a:spcBef>
                <a:spcPts val="751"/>
              </a:spcBef>
              <a:buClr>
                <a:srgbClr val="0536b3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So like the kid outside the principal</a:t>
            </a:r>
            <a:r>
              <a:rPr b="0" lang="ja-JP" sz="30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s office, you don</a:t>
            </a:r>
            <a:r>
              <a:rPr b="0" lang="ja-JP" sz="30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t think that anyone is listening.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08520" indent="-308520">
              <a:lnSpc>
                <a:spcPct val="90000"/>
              </a:lnSpc>
              <a:spcBef>
                <a:spcPts val="751"/>
              </a:spcBef>
              <a:buClr>
                <a:srgbClr val="0536b3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How do you show empathy with your friends?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617" name="Title 2" descr=""/>
          <p:cNvPicPr/>
          <p:nvPr/>
        </p:nvPicPr>
        <p:blipFill>
          <a:blip r:embed="rId1"/>
          <a:stretch/>
        </p:blipFill>
        <p:spPr>
          <a:xfrm>
            <a:off x="438120" y="152280"/>
            <a:ext cx="8248680" cy="1146240"/>
          </a:xfrm>
          <a:prstGeom prst="rect">
            <a:avLst/>
          </a:prstGeom>
          <a:ln w="0">
            <a:noFill/>
          </a:ln>
        </p:spPr>
      </p:pic>
      <p:pic>
        <p:nvPicPr>
          <p:cNvPr id="618" name="Picture 2" descr="C:\Users\Ed\AppData\Local\Microsoft\Windows\Temporary Internet Files\Content.IE5\PN15L7HY\MCj00890440000[1].wmf"/>
          <p:cNvPicPr/>
          <p:nvPr/>
        </p:nvPicPr>
        <p:blipFill>
          <a:blip r:embed="rId2"/>
          <a:stretch/>
        </p:blipFill>
        <p:spPr>
          <a:xfrm>
            <a:off x="7620120" y="152280"/>
            <a:ext cx="1236600" cy="109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4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2000"/>
                                        <p:tgtEl>
                                          <p:spTgt spid="6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2000" fill="hold"/>
                                        <p:tgtEl>
                                          <p:spTgt spid="6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2000" fill="hold"/>
                                        <p:tgtEl>
                                          <p:spTgt spid="6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2000" fill="hold"/>
                                        <p:tgtEl>
                                          <p:spTgt spid="6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6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6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6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2000"/>
                                        <p:tgtEl>
                                          <p:spTgt spid="6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6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6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9" dur="1000"/>
                                        <p:tgtEl>
                                          <p:spTgt spid="6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6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6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6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6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6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"/>
          <p:cNvSpPr txBox="1"/>
          <p:nvPr/>
        </p:nvSpPr>
        <p:spPr>
          <a:xfrm>
            <a:off x="457200" y="150012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536b3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7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Hang on would ya?  I</a:t>
            </a:r>
            <a:r>
              <a:rPr b="0" lang="ja-JP" sz="27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ve got a call…</a:t>
            </a:r>
            <a:r>
              <a:rPr b="0" lang="ja-JP" sz="2700" spc="-1" strike="noStrike">
                <a:solidFill>
                  <a:srgbClr val="000000"/>
                </a:solidFill>
                <a:latin typeface="Gill Sans MT"/>
              </a:rPr>
              <a:t>”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536b3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How many of you have been interrupted by a friend who wasn</a:t>
            </a:r>
            <a:r>
              <a:rPr b="0" lang="ja-JP" sz="27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t paying attention to you?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536b3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How does a situation like this impact you?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536b3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Minimizing distractions is more than just cell phones, and making eyes with another classmate while a friend is talking.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536b3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It has to do with hearing and respecting the other person.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536b3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What distracts you from a conversation?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536b3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How might you minimize these?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620" name="Title 2" descr=""/>
          <p:cNvPicPr/>
          <p:nvPr/>
        </p:nvPicPr>
        <p:blipFill>
          <a:blip r:embed="rId1"/>
          <a:stretch/>
        </p:blipFill>
        <p:spPr>
          <a:xfrm>
            <a:off x="444600" y="152280"/>
            <a:ext cx="8242200" cy="1146240"/>
          </a:xfrm>
          <a:prstGeom prst="rect">
            <a:avLst/>
          </a:prstGeom>
          <a:ln w="0">
            <a:noFill/>
          </a:ln>
        </p:spPr>
      </p:pic>
      <p:pic>
        <p:nvPicPr>
          <p:cNvPr id="621" name="Picture 3" descr="C:\Users\Ed\AppData\Local\Microsoft\Windows\Temporary Internet Files\Content.IE5\FMUEA5JS\MCBD19973_0000[1].wmf"/>
          <p:cNvPicPr/>
          <p:nvPr/>
        </p:nvPicPr>
        <p:blipFill>
          <a:blip r:embed="rId2"/>
          <a:stretch/>
        </p:blipFill>
        <p:spPr>
          <a:xfrm>
            <a:off x="7543800" y="152280"/>
            <a:ext cx="1379520" cy="11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95" dur="2000"/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6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6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2" dur="1000"/>
                                        <p:tgtEl>
                                          <p:spTgt spid="6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6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6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3" dur="1000"/>
                                        <p:tgtEl>
                                          <p:spTgt spid="6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6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6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900" fill="hold"/>
                                        <p:tgtEl>
                                          <p:spTgt spid="6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6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6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6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6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500"/>
                                        <p:tgtEl>
                                          <p:spTgt spid="6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5" dur="500"/>
                                        <p:tgtEl>
                                          <p:spTgt spid="6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"/>
          <p:cNvSpPr txBox="1"/>
          <p:nvPr/>
        </p:nvSpPr>
        <p:spPr>
          <a:xfrm>
            <a:off x="457200" y="150012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536b3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How do you feel when someone picks on you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536b3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You probably started your answer off with, </a:t>
            </a:r>
            <a:r>
              <a:rPr b="0" lang="ja-JP" sz="32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When I am picked on I feel…</a:t>
            </a:r>
            <a:r>
              <a:rPr b="0" lang="ja-JP" sz="3200" spc="-1" strike="noStrike">
                <a:solidFill>
                  <a:srgbClr val="000000"/>
                </a:solidFill>
                <a:latin typeface="Gill Sans MT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536b3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s is what we call an </a:t>
            </a:r>
            <a:r>
              <a:rPr b="0" lang="ja-JP" sz="32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</a:t>
            </a:r>
            <a:r>
              <a:rPr b="0" lang="ja-JP" sz="32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statement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536b3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ese statements always begin with </a:t>
            </a:r>
            <a:r>
              <a:rPr b="0" lang="ja-JP" sz="32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.</a:t>
            </a:r>
            <a:r>
              <a:rPr b="0" lang="ja-JP" sz="32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536b3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ese statements help to convey your feelings without offending the opposing party.  And they really work!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536b3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ere</a:t>
            </a:r>
            <a:r>
              <a:rPr b="0" lang="ja-JP" sz="32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 a general formula for </a:t>
            </a:r>
            <a:r>
              <a:rPr b="0" lang="ja-JP" sz="32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</a:t>
            </a:r>
            <a:r>
              <a:rPr b="0" lang="ja-JP" sz="32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statements…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623" name="Title 2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53360" cy="1146240"/>
          </a:xfrm>
          <a:prstGeom prst="rect">
            <a:avLst/>
          </a:prstGeom>
          <a:ln w="0">
            <a:noFill/>
          </a:ln>
        </p:spPr>
      </p:pic>
      <p:pic>
        <p:nvPicPr>
          <p:cNvPr id="624" name="Picture 2" descr="C:\Users\Ed\AppData\Local\Microsoft\Windows\Temporary Internet Files\Content.IE5\CR16WL53\MPj03857320000[1].jpg"/>
          <p:cNvPicPr/>
          <p:nvPr/>
        </p:nvPicPr>
        <p:blipFill>
          <a:blip r:embed="rId2"/>
          <a:stretch/>
        </p:blipFill>
        <p:spPr>
          <a:xfrm>
            <a:off x="133200" y="152280"/>
            <a:ext cx="148284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100"/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3" dur="400" fill="hold"/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400" fill="hold"/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6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6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3" dur="1000"/>
                                        <p:tgtEl>
                                          <p:spTgt spid="6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5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6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66" dur="2000"/>
                                        <p:tgtEl>
                                          <p:spTgt spid="6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71" dur="500"/>
                                        <p:tgtEl>
                                          <p:spTgt spid="6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5" name="Title 3" descr=""/>
          <p:cNvPicPr/>
          <p:nvPr/>
        </p:nvPicPr>
        <p:blipFill>
          <a:blip r:embed="rId1"/>
          <a:stretch/>
        </p:blipFill>
        <p:spPr>
          <a:xfrm>
            <a:off x="652320" y="4346640"/>
            <a:ext cx="7845480" cy="1425600"/>
          </a:xfrm>
          <a:prstGeom prst="rect">
            <a:avLst/>
          </a:prstGeom>
          <a:ln w="0">
            <a:noFill/>
          </a:ln>
        </p:spPr>
      </p:pic>
      <p:sp>
        <p:nvSpPr>
          <p:cNvPr id="626" name="PlaceHolder 1"/>
          <p:cNvSpPr>
            <a:spLocks noGrp="1"/>
          </p:cNvSpPr>
          <p:nvPr>
            <p:ph/>
          </p:nvPr>
        </p:nvSpPr>
        <p:spPr>
          <a:xfrm>
            <a:off x="228600" y="1599840"/>
            <a:ext cx="8686800" cy="256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Use the formula in #1 to construct a sentence of your own.  It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 easy!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-457200">
              <a:spcBef>
                <a:spcPts val="499"/>
              </a:spcBef>
              <a:buClr>
                <a:srgbClr val="0536b3"/>
              </a:buClr>
              <a:buSzPct val="7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I feel _(feeling)_ when you _(event)_ because _(impact on you)_ .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-457200">
              <a:spcBef>
                <a:spcPts val="499"/>
              </a:spcBef>
              <a:buClr>
                <a:srgbClr val="0536b3"/>
              </a:buClr>
              <a:buSzPct val="7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I feel silly when you ____ because ____.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-457200">
              <a:spcBef>
                <a:spcPts val="499"/>
              </a:spcBef>
              <a:buClr>
                <a:srgbClr val="0536b3"/>
              </a:buClr>
              <a:buSzPct val="7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I feel silly when you dress up as a clown because ____.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-457200">
              <a:spcBef>
                <a:spcPts val="499"/>
              </a:spcBef>
              <a:buClr>
                <a:srgbClr val="0536b3"/>
              </a:buClr>
              <a:buSzPct val="7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I feel silly when you dress up as a clown because you trick me with your electric hand thingy.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6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6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0" dur="500"/>
                                        <p:tgtEl>
                                          <p:spTgt spid="6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6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6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6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500"/>
                                        <p:tgtEl>
                                          <p:spTgt spid="6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6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6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6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6" dur="1000"/>
                                        <p:tgtEl>
                                          <p:spTgt spid="6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2000"/>
                                        <p:tgtEl>
                                          <p:spTgt spid="6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2" dur="2000" fill="hold"/>
                                        <p:tgtEl>
                                          <p:spTgt spid="6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2000" fill="hold"/>
                                        <p:tgtEl>
                                          <p:spTgt spid="6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6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6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6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6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2" dur="500"/>
                                        <p:tgtEl>
                                          <p:spTgt spid="6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"/>
          <p:cNvSpPr txBox="1"/>
          <p:nvPr/>
        </p:nvSpPr>
        <p:spPr>
          <a:xfrm>
            <a:off x="457200" y="150012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536b3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Ok now… finally… try summarizing!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spcBef>
                <a:spcPts val="799"/>
              </a:spcBef>
              <a:buClr>
                <a:srgbClr val="0536b3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What have we learned so far!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spcBef>
                <a:spcPts val="799"/>
              </a:spcBef>
              <a:buClr>
                <a:srgbClr val="0536b3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We are now going to partner up to practice these skills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628" name="Title 3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5336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6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6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6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0" dur="1000"/>
                                        <p:tgtEl>
                                          <p:spTgt spid="6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6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6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6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6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"/>
          <p:cNvSpPr txBox="1"/>
          <p:nvPr/>
        </p:nvSpPr>
        <p:spPr>
          <a:xfrm>
            <a:off x="457200" y="150012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75"/>
              </a:spcBef>
              <a:buClr>
                <a:srgbClr val="0536b3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In this presentation we will cover the following: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108bb4"/>
              </a:buClr>
              <a:buSzPct val="6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ctive Listening Skill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1062720" indent="-212400">
              <a:lnSpc>
                <a:spcPct val="90000"/>
              </a:lnSpc>
              <a:spcBef>
                <a:spcPts val="499"/>
              </a:spcBef>
              <a:buClr>
                <a:srgbClr val="da7328"/>
              </a:buClr>
              <a:buSzPct val="57000"/>
              <a:buFont typeface="Wingdings 2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Eye contact, posture, and body languag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062720" indent="-212400">
              <a:lnSpc>
                <a:spcPct val="90000"/>
              </a:lnSpc>
              <a:spcBef>
                <a:spcPts val="499"/>
              </a:spcBef>
              <a:buClr>
                <a:srgbClr val="da7328"/>
              </a:buClr>
              <a:buSzPct val="57000"/>
              <a:buFont typeface="Wingdings 2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Paraphrasing, clarifying, and verifying perception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062720" indent="-212400">
              <a:lnSpc>
                <a:spcPct val="90000"/>
              </a:lnSpc>
              <a:spcBef>
                <a:spcPts val="499"/>
              </a:spcBef>
              <a:buClr>
                <a:srgbClr val="da7328"/>
              </a:buClr>
              <a:buSzPct val="57000"/>
              <a:buFont typeface="Wingdings 2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Empathy, summarizing, and minimizing distraction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108bb4"/>
              </a:buClr>
              <a:buSzPct val="6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Statement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1062720" indent="-212400">
              <a:lnSpc>
                <a:spcPct val="90000"/>
              </a:lnSpc>
              <a:spcBef>
                <a:spcPts val="499"/>
              </a:spcBef>
              <a:buClr>
                <a:srgbClr val="da7328"/>
              </a:buClr>
              <a:buSzPct val="57000"/>
              <a:buFont typeface="Wingdings 2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e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062720" indent="-212400">
              <a:lnSpc>
                <a:spcPct val="90000"/>
              </a:lnSpc>
              <a:spcBef>
                <a:spcPts val="499"/>
              </a:spcBef>
              <a:buClr>
                <a:srgbClr val="da7328"/>
              </a:buClr>
              <a:buSzPct val="57000"/>
              <a:buFont typeface="Wingdings 2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Even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062720" indent="-212400">
              <a:lnSpc>
                <a:spcPct val="90000"/>
              </a:lnSpc>
              <a:spcBef>
                <a:spcPts val="499"/>
              </a:spcBef>
              <a:buClr>
                <a:srgbClr val="da7328"/>
              </a:buClr>
              <a:buSzPct val="57000"/>
              <a:buFont typeface="Wingdings 2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Resolutio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18960" indent="-318960">
              <a:lnSpc>
                <a:spcPct val="90000"/>
              </a:lnSpc>
              <a:spcBef>
                <a:spcPts val="675"/>
              </a:spcBef>
              <a:buClr>
                <a:srgbClr val="0536b3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Following this presentation you will be asked to practice these skills.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18960" indent="-318960">
              <a:lnSpc>
                <a:spcPct val="90000"/>
              </a:lnSpc>
              <a:spcBef>
                <a:spcPts val="675"/>
              </a:spcBef>
              <a:buClr>
                <a:srgbClr val="0536b3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Be sure to follow along using your </a:t>
            </a:r>
            <a:r>
              <a:rPr b="0" lang="ja-JP" sz="2700" spc="-1" strike="noStrike">
                <a:solidFill>
                  <a:srgbClr val="000000"/>
                </a:solidFill>
                <a:latin typeface="Gill Sans MT"/>
              </a:rPr>
              <a:t>‘</a:t>
            </a: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Student Handout.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94" name="Title 2" descr=""/>
          <p:cNvPicPr/>
          <p:nvPr/>
        </p:nvPicPr>
        <p:blipFill>
          <a:blip r:embed="rId1"/>
          <a:stretch/>
        </p:blipFill>
        <p:spPr>
          <a:xfrm>
            <a:off x="438120" y="152280"/>
            <a:ext cx="824868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"/>
          <p:cNvSpPr txBox="1"/>
          <p:nvPr/>
        </p:nvSpPr>
        <p:spPr>
          <a:xfrm>
            <a:off x="457200" y="150012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536b3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When you are telling your friend a story, how do you know they are listening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spcBef>
                <a:spcPts val="799"/>
              </a:spcBef>
              <a:buClr>
                <a:srgbClr val="0536b3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96" name="Title 2" descr=""/>
          <p:cNvPicPr/>
          <p:nvPr/>
        </p:nvPicPr>
        <p:blipFill>
          <a:blip r:embed="rId1"/>
          <a:stretch/>
        </p:blipFill>
        <p:spPr>
          <a:xfrm>
            <a:off x="438120" y="152280"/>
            <a:ext cx="824868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 txBox="1"/>
          <p:nvPr/>
        </p:nvSpPr>
        <p:spPr>
          <a:xfrm>
            <a:off x="457200" y="150012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536b3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Active listening skills are those behaviors that tell someone who is talking that you are listening to them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spcBef>
                <a:spcPts val="799"/>
              </a:spcBef>
              <a:buClr>
                <a:srgbClr val="0536b3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ere are two main categories of active listening skills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700"/>
              </a:spcBef>
              <a:buClr>
                <a:srgbClr val="108bb4"/>
              </a:buClr>
              <a:buSzPct val="6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Body Positio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700"/>
              </a:spcBef>
              <a:buClr>
                <a:srgbClr val="108bb4"/>
              </a:buClr>
              <a:buSzPct val="6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Languag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spcBef>
                <a:spcPts val="799"/>
              </a:spcBef>
              <a:buClr>
                <a:srgbClr val="0536b3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98" name="Title 2" descr=""/>
          <p:cNvPicPr/>
          <p:nvPr/>
        </p:nvPicPr>
        <p:blipFill>
          <a:blip r:embed="rId1"/>
          <a:stretch/>
        </p:blipFill>
        <p:spPr>
          <a:xfrm>
            <a:off x="438120" y="152280"/>
            <a:ext cx="824868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"/>
                                        <p:tgtEl>
                                          <p:spTgt spid="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400" fill="hold"/>
                                        <p:tgtEl>
                                          <p:spTgt spid="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400" fill="hold"/>
                                        <p:tgtEl>
                                          <p:spTgt spid="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5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5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5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" dur="500"/>
                                        <p:tgtEl>
                                          <p:spTgt spid="5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5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"/>
          <p:cNvSpPr txBox="1"/>
          <p:nvPr/>
        </p:nvSpPr>
        <p:spPr>
          <a:xfrm>
            <a:off x="457200" y="1500120"/>
            <a:ext cx="8229600" cy="505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536b3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When you are talking to someone, how do you know they are listening to you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536b3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Eye contact is very important for active listening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536b3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Humans communicate a lot with their eyes, therefore if the eyes are wondering it is probably a sign that the mind is not paying attention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536b3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oo much of a good thing: make eye contact but don</a:t>
            </a:r>
            <a:r>
              <a:rPr b="0" lang="ja-JP" sz="32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 stare!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600" name="Title 2" descr=""/>
          <p:cNvPicPr/>
          <p:nvPr/>
        </p:nvPicPr>
        <p:blipFill>
          <a:blip r:embed="rId1"/>
          <a:stretch/>
        </p:blipFill>
        <p:spPr>
          <a:xfrm>
            <a:off x="438120" y="152280"/>
            <a:ext cx="8248680" cy="1146240"/>
          </a:xfrm>
          <a:prstGeom prst="rect">
            <a:avLst/>
          </a:prstGeom>
          <a:ln w="0">
            <a:noFill/>
          </a:ln>
        </p:spPr>
      </p:pic>
      <p:pic>
        <p:nvPicPr>
          <p:cNvPr id="601" name="Picture 3" descr="C:\Users\Ed\AppData\Local\Microsoft\Windows\Temporary Internet Files\Content.IE5\CR16WL53\MPj04285880000[1].jpg"/>
          <p:cNvPicPr/>
          <p:nvPr/>
        </p:nvPicPr>
        <p:blipFill>
          <a:blip r:embed="rId2"/>
          <a:stretch/>
        </p:blipFill>
        <p:spPr>
          <a:xfrm>
            <a:off x="7315200" y="152280"/>
            <a:ext cx="1508040" cy="10065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5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5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5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"/>
          <p:cNvSpPr txBox="1"/>
          <p:nvPr/>
        </p:nvSpPr>
        <p:spPr>
          <a:xfrm>
            <a:off x="457200" y="150012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536b3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What is the </a:t>
            </a:r>
            <a:r>
              <a:rPr b="0" lang="ja-JP" sz="32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osed off</a:t>
            </a:r>
            <a:r>
              <a:rPr b="0" lang="ja-JP" sz="32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body posture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spcBef>
                <a:spcPts val="799"/>
              </a:spcBef>
              <a:buClr>
                <a:srgbClr val="0536b3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rossed arms indicate that the listener is not receptive to the speaker or the conversation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spcBef>
                <a:spcPts val="799"/>
              </a:spcBef>
              <a:buClr>
                <a:srgbClr val="0536b3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Positive body language: listener facing speaker, open posture, relaxed, smiling, and head nodding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603" name="Title 2" descr=""/>
          <p:cNvPicPr/>
          <p:nvPr/>
        </p:nvPicPr>
        <p:blipFill>
          <a:blip r:embed="rId1"/>
          <a:stretch/>
        </p:blipFill>
        <p:spPr>
          <a:xfrm>
            <a:off x="438120" y="152280"/>
            <a:ext cx="8248680" cy="1146240"/>
          </a:xfrm>
          <a:prstGeom prst="rect">
            <a:avLst/>
          </a:prstGeom>
          <a:ln w="0">
            <a:noFill/>
          </a:ln>
        </p:spPr>
      </p:pic>
      <p:pic>
        <p:nvPicPr>
          <p:cNvPr id="604" name="Picture 2" descr="C:\Users\Ed\AppData\Local\Microsoft\Windows\Temporary Internet Files\Content.IE5\PN15L7HY\MPj04223670000[1].jpg"/>
          <p:cNvPicPr/>
          <p:nvPr/>
        </p:nvPicPr>
        <p:blipFill>
          <a:blip r:embed="rId2"/>
          <a:stretch/>
        </p:blipFill>
        <p:spPr>
          <a:xfrm>
            <a:off x="7924680" y="152280"/>
            <a:ext cx="816120" cy="1096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80" dur="2000"/>
                                        <p:tgtEl>
                                          <p:spTgt spid="6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6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6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6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"/>
          <p:cNvSpPr txBox="1"/>
          <p:nvPr/>
        </p:nvSpPr>
        <p:spPr>
          <a:xfrm>
            <a:off x="457200" y="150012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536b3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Repeat after me… paraphrasing is the act of restating someone</a:t>
            </a:r>
            <a:r>
              <a:rPr b="0" lang="ja-JP" sz="32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 words back to them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spcBef>
                <a:spcPts val="799"/>
              </a:spcBef>
              <a:buClr>
                <a:srgbClr val="0536b3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Paraphrasing shows you are listening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spcBef>
                <a:spcPts val="799"/>
              </a:spcBef>
              <a:buClr>
                <a:srgbClr val="0536b3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Paraphrasing shows your understanding of what the speaker was saying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spcBef>
                <a:spcPts val="799"/>
              </a:spcBef>
              <a:buClr>
                <a:srgbClr val="0536b3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o what is paraphrasing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606" name="Title 2" descr=""/>
          <p:cNvPicPr/>
          <p:nvPr/>
        </p:nvPicPr>
        <p:blipFill>
          <a:blip r:embed="rId1"/>
          <a:stretch/>
        </p:blipFill>
        <p:spPr>
          <a:xfrm>
            <a:off x="438120" y="152280"/>
            <a:ext cx="8248680" cy="1146240"/>
          </a:xfrm>
          <a:prstGeom prst="rect">
            <a:avLst/>
          </a:prstGeom>
          <a:ln w="0">
            <a:noFill/>
          </a:ln>
        </p:spPr>
      </p:pic>
      <p:pic>
        <p:nvPicPr>
          <p:cNvPr id="607" name="Picture 2" descr="C:\Users\Ed\AppData\Local\Microsoft\Windows\Temporary Internet Files\Content.IE5\FMUEA5JS\MPj04265130000[1].jpg"/>
          <p:cNvPicPr/>
          <p:nvPr/>
        </p:nvPicPr>
        <p:blipFill>
          <a:blip r:embed="rId2"/>
          <a:stretch/>
        </p:blipFill>
        <p:spPr>
          <a:xfrm>
            <a:off x="8153280" y="152280"/>
            <a:ext cx="730440" cy="1096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"/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400" fill="hold"/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400" fill="hold"/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6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6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6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6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11" dur="500"/>
                                        <p:tgtEl>
                                          <p:spTgt spid="6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6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6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6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6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6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"/>
          <p:cNvSpPr txBox="1"/>
          <p:nvPr/>
        </p:nvSpPr>
        <p:spPr>
          <a:xfrm>
            <a:off x="457200" y="1499760"/>
            <a:ext cx="8229600" cy="49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536b3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Let me get this straight…</a:t>
            </a:r>
            <a:r>
              <a:rPr b="0" lang="ja-JP" sz="3200" spc="-1" strike="noStrike">
                <a:solidFill>
                  <a:srgbClr val="000000"/>
                </a:solidFill>
                <a:latin typeface="Gill Sans MT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536b3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s is a common format for a verifying perceptions sentence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536b3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Verifying perceptions is used by a listener when they are confused by the speaker and they want to make sure they are following the conversation. 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536b3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t also gives the speaker feedback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536b3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What are other ways you have tried to verify perceptions when listening to your friends?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609" name="Title 2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48680" cy="1146240"/>
          </a:xfrm>
          <a:prstGeom prst="rect">
            <a:avLst/>
          </a:prstGeom>
          <a:ln w="0">
            <a:noFill/>
          </a:ln>
        </p:spPr>
      </p:pic>
      <p:pic>
        <p:nvPicPr>
          <p:cNvPr id="610" name="Picture 3" descr="C:\Users\Ed\AppData\Local\Microsoft\Windows\Temporary Internet Files\Content.IE5\A680A242\MPj04038180000[1].jpg"/>
          <p:cNvPicPr/>
          <p:nvPr/>
        </p:nvPicPr>
        <p:blipFill>
          <a:blip r:embed="rId2"/>
          <a:stretch/>
        </p:blipFill>
        <p:spPr>
          <a:xfrm>
            <a:off x="228600" y="152280"/>
            <a:ext cx="1676520" cy="109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5000" fill="hold"/>
                                        <p:tgtEl>
                                          <p:spTgt spid="6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5000" fill="hold"/>
                                        <p:tgtEl>
                                          <p:spTgt spid="6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770"/>
                                        <p:tgtEl>
                                          <p:spTgt spid="6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0" dur="770" fill="hold"/>
                                        <p:tgtEl>
                                          <p:spTgt spid="6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2" dur="770" fill="hold"/>
                                        <p:tgtEl>
                                          <p:spTgt spid="6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4" dur="770" fill="hold"/>
                                        <p:tgtEl>
                                          <p:spTgt spid="6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6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6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6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6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"/>
          <p:cNvSpPr txBox="1"/>
          <p:nvPr/>
        </p:nvSpPr>
        <p:spPr>
          <a:xfrm>
            <a:off x="457200" y="150012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51"/>
              </a:spcBef>
              <a:buClr>
                <a:srgbClr val="0536b3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Clear as mud…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15360" indent="-315360">
              <a:lnSpc>
                <a:spcPct val="90000"/>
              </a:lnSpc>
              <a:spcBef>
                <a:spcPts val="751"/>
              </a:spcBef>
              <a:buClr>
                <a:srgbClr val="0536b3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Sometimes conversations can get confusing.  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15360" indent="-315360">
              <a:lnSpc>
                <a:spcPct val="90000"/>
              </a:lnSpc>
              <a:spcBef>
                <a:spcPts val="751"/>
              </a:spcBef>
              <a:buClr>
                <a:srgbClr val="0536b3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So and so did such and such which lead you know who to say you don</a:t>
            </a:r>
            <a:r>
              <a:rPr b="0" lang="ja-JP" sz="30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t even want to know what!</a:t>
            </a:r>
            <a:r>
              <a:rPr b="0" lang="ja-JP" sz="3000" spc="-1" strike="noStrike">
                <a:solidFill>
                  <a:srgbClr val="000000"/>
                </a:solidFill>
                <a:latin typeface="Gill Sans MT"/>
              </a:rPr>
              <a:t>”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15360" indent="-315360">
              <a:lnSpc>
                <a:spcPct val="90000"/>
              </a:lnSpc>
              <a:spcBef>
                <a:spcPts val="751"/>
              </a:spcBef>
              <a:buClr>
                <a:srgbClr val="0536b3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Clarifying sentences can help you, the listener, lay it all out for the speaker to make sure everything is clear.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15360" indent="-315360">
              <a:lnSpc>
                <a:spcPct val="90000"/>
              </a:lnSpc>
              <a:spcBef>
                <a:spcPts val="751"/>
              </a:spcBef>
              <a:buClr>
                <a:srgbClr val="0536b3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In normal, clear conversations, clarifying can just make sure that you and the speaker agree.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612" name="Title 2" descr=""/>
          <p:cNvPicPr/>
          <p:nvPr/>
        </p:nvPicPr>
        <p:blipFill>
          <a:blip r:embed="rId1"/>
          <a:stretch/>
        </p:blipFill>
        <p:spPr>
          <a:xfrm>
            <a:off x="438120" y="152280"/>
            <a:ext cx="8248680" cy="1146240"/>
          </a:xfrm>
          <a:prstGeom prst="rect">
            <a:avLst/>
          </a:prstGeom>
          <a:ln w="0">
            <a:noFill/>
          </a:ln>
        </p:spPr>
      </p:pic>
      <p:pic>
        <p:nvPicPr>
          <p:cNvPr id="613" name="Picture 3" descr="C:\Users\Ed\AppData\Local\Microsoft\Windows\Temporary Internet Files\Content.IE5\CR16WL53\MPj03826740000[1].jpg"/>
          <p:cNvPicPr/>
          <p:nvPr/>
        </p:nvPicPr>
        <p:blipFill>
          <a:blip r:embed="rId2"/>
          <a:stretch/>
        </p:blipFill>
        <p:spPr>
          <a:xfrm>
            <a:off x="7696080" y="152280"/>
            <a:ext cx="1165320" cy="109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"/>
                                        <p:tgtEl>
                                          <p:spTgt spid="6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400" fill="hold"/>
                                        <p:tgtEl>
                                          <p:spTgt spid="6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400" fill="hold"/>
                                        <p:tgtEl>
                                          <p:spTgt spid="6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6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6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3" dur="1000"/>
                                        <p:tgtEl>
                                          <p:spTgt spid="6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6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6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6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6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6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6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7T01:37:07Z</dcterms:created>
  <dc:creator>Ed Ingman</dc:creator>
  <dc:description/>
  <dc:language>en-US</dc:language>
  <cp:lastModifiedBy>Aimee St. Hilaire</cp:lastModifiedBy>
  <dcterms:modified xsi:type="dcterms:W3CDTF">2012-03-26T17:14:11Z</dcterms:modified>
  <cp:revision>6</cp:revision>
  <dc:subject/>
  <dc:title>Interpersonal and Communication Process</dc:title>
</cp:coreProperties>
</file>