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1794-DE37-4752-920A-B3F9BB6F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D34-2A2C-4A71-9B0B-5794CB625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2197-9FBD-42D7-8683-B03F43AD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CF0-62A4-475D-B318-DF14FFA9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A3F-479E-46E2-804E-C1155150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7FC5-BC56-4F08-BE14-1EA8E967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2E73-3150-4DB6-B41B-5E0E9D2DC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5761-DA05-46F7-9443-177000DA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E667-FAA8-43CC-B2EC-D1080AE6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235-B931-47AE-A445-15861BD9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0CE2-DD8F-4327-AA0C-B878C4FC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ED0-8BCC-4A07-9312-D1E1CFA3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E8B-F44F-42D8-B16B-DA316E2D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17B2-58BE-44FC-9420-0BBF5695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0E7-1D27-46B6-867F-2DD6D703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8549-47F3-4502-AE89-5AFD6049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6DC-E3B6-4B0D-A456-89AC8D55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32F-C0D9-49EF-AD34-4D2EF8DA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59487-B027-4721-ACF5-E2859E2E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911D-D643-4C55-9AE8-F68EF6DE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AFD8-9BE4-4D98-8E9E-7E85D194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86230-E553-4141-9E87-2C9C110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CBEBF-ABC9-4141-B9FD-989BF10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E8EC-D8B6-406D-A130-1134B53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BC3E5-4B29-47B6-BA59-E3BAA65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0F3D0-50E8-47B4-92BB-40207206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C3E2B-34D4-4534-B27F-2B8D7F89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7CE64-526C-4083-A0F1-E0990328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AEE-E5EB-4155-9444-360A58BD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EB6BA-6ECC-4E35-B483-3F2AFA7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2118-B528-4169-8071-1CFDF31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E15BF-FC91-4891-AC91-BBAB329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6456-59EB-42B8-A697-CED997E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59607-BA6F-4E2B-A1E6-3D400EE3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A1CF3-B79F-499A-9E8B-044DF46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F13BF-3C2E-4CBC-97FA-DC176B0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68E1F-3DD1-4260-A1ED-6E05E70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2F2E9-CC8A-41EA-A545-57DECDBA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671FD-D10A-44F6-A161-105BD44F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E1B-9CB0-462B-9429-00E37664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DD409-0005-41A1-8CD8-24472212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3B794-0EB4-4C64-907B-9A62FFA5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C637E-9A23-4A4F-AE16-F52CBE76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B6930-6452-48C8-8E0B-ECE1F30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9D947-BD87-4ECF-B7D0-CF901A5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850B0-4851-43D0-9AE3-0023425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FB1D-BC3A-4A75-8378-2D6AD1C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62EFE-A8C5-4ED4-A57D-EA1A1EB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39006-8B33-4973-9031-B5217F9A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6B16-9630-403F-8235-FF63D340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E0F-0924-4764-BB57-6E6A25EA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5C1CF-68D6-4289-97A1-9B25C03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6B0B0-F305-4904-8718-5C9422D0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E28D8-7BFB-49D4-AA1B-191B5E74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2F3A-792F-4BDF-BBE1-3C5FE128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35B3E-5A02-4248-A404-64A13F6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CC1D1-F2D9-457A-85F2-9285D1F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DC64A-8018-4CC3-A1C0-2CE19C85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806E2-BD63-4221-86CF-6D7BD92F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C64B8-C735-4825-BA80-3B45AEA8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83880-4672-4BFF-9D7C-E16382A9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C02E-4B3C-4940-86F7-2D63E085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60BA5-4D22-4B7A-9A89-C2130668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EE7BA-48A2-4303-BFCB-A644EE6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7A82B-3E83-4FD5-AC83-DED3107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213C7-8295-43DF-809A-522D270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BCCEC-CD70-4F2C-AD35-83289F9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6243-F4BD-4CAE-ACE7-D4D53BE0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29D-71A4-4844-B5B5-567EEAE5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1213-CC73-4C48-8A25-57784FD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C54-4154-4529-B0BB-E6E8C75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964D-0845-46E7-B497-EEF0941D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ED4-D121-448A-AD48-160FEEC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77DB-1D04-4D9F-8D33-4ECA686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94C6-C8A7-4338-94C7-E0570AA5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AC0C-7D9A-4435-AE9D-E29B0DD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2674-E4D6-40E5-873D-145338A9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1BB-6239-47F3-83B8-3353F90F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FDD0-AFD3-41CB-B1B6-1D8321D4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4CF6-19C8-410B-B77F-608BB3A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E6A6-1BCD-420C-A03A-0E1E2881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EF68-D8DF-47B3-A7AE-BF5A97D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C6EC-2BF3-4788-A46F-ADC0362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05F-789F-4F1E-85D0-BC883DE9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ABFD-7BDB-41AA-B72F-A0DABE2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3121-4BA6-40C4-B25B-D59C549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1102-EFD5-4E9A-8658-157C486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58D0-08F4-45F9-A598-A64B6EB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E139-2F17-4F16-B057-4801924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551B-7CCD-495F-944D-3A0D2D19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F898-7DAD-4CFE-BFF9-D5320E83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1A8C-0DF6-4039-A94C-3E4C2F48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6E53-71A6-4FF4-81BD-20DFDAE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499A-450E-43B7-AD12-FA620017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D90-1982-4001-81B3-72457D9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FECE-58B8-41C2-9600-89BCB206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F204-A9A2-4962-9020-0B40EDD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E2E0-6EDC-4168-AC79-B6E914D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F4C3-EB9F-4144-9E20-9D761F3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EB36-87EA-45ED-A26B-64B78DA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24F1-A138-46EC-9E3B-7B311DC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8DFF-CBC6-484C-879D-DF23006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519E-955E-429D-A0BE-CBBE5B37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63AA-146F-4CE1-B4F3-208F083C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C7BE-B906-49F9-85BF-094DE1BA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56D-05B9-46FB-BDB0-52800F6E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CC8C-E495-4697-B3EF-B350AB9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0567-3CB4-4F67-B2D7-9F65FCF2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52B7-FB84-437B-9ECE-ABB1E60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B43B0-9A10-496A-A94E-CD8EA62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BB20-25CD-40CB-8DC4-76BFA6B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3030-F0AB-4C2D-8973-DB82D6B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9342-89CD-43E9-AD33-222CEFF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0EAB-E386-4A8D-AA55-6D45A88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C910-233A-4E67-BE95-F7666C4A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C8E8-000B-4E5E-8857-4E465AE8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FF1-2D12-4FD4-9524-0D140D93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36C4-8A0A-4248-8A3A-3E39CF9B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E9AC-AAF2-424D-BF9C-B5D0D15B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AB55-434C-4A1A-AE0D-470AC8FF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CC28F-2880-4C9C-9B95-904B890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AA40-9037-4C45-888C-189D08A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282FC-0895-40F7-85C7-CA128953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A716-E486-49DC-8035-7BDE6A9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53D6-5972-4FCD-B1D3-89B7A4C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46D7-8A12-419F-92AE-F118B17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F087-6B57-4839-B1C9-EA5C25C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9E0-FCF5-4082-8029-09C3D97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DA40-ED95-449B-AA4E-C7713FEC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39133-16B5-44A1-8B02-8D2E6814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89D1-9473-4782-A614-D20BB3B5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3858-0DD3-4D73-98F0-C4C5E039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E9C01-7321-4223-989A-D5B1915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97399-14B6-4D4E-8DAE-6E2483D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68CCC-6AE9-4039-BC49-776028A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007A-A02A-4B20-B9BF-95BB394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81AF-3183-4CC3-952E-67A395D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45A3-5A21-4179-9B43-AF25D23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CFA-B90B-44EB-BCDD-6BA04FE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945C-6D2A-4F16-AE14-2849417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D4EB-F880-4425-9D56-1808289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BD6B-3B56-4ED6-AD22-ACA66FE8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9E3B-DC7C-439D-BD7C-69CCF6A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63E3-2551-40CE-9A23-2DBD67BB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49BA8-F6E0-4D64-9623-8F79AFE4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DCFE4-1458-4FEE-89D7-887EDF3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A5BB9-0F49-4524-AD54-E9D5C23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7CAD1-4831-47B6-86F2-091C044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28F7-FD2E-4400-8D90-D2B1A24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813-B9BF-4C3E-8D03-5497C8D2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DE0C-7E7C-441F-AA78-7CA7D2F5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6E4B-C333-4845-8A04-5ECCB68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57ED-138B-4B98-A29B-7000221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C7529-6BF0-4671-9205-8751E26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CFC11-B458-46FD-9CD4-961F98E0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CC9E-FE5F-479A-A3D5-9DDEB2D8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2DDEC-F976-45CD-ADA7-7BF9590D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E5D56-52AA-4C02-9361-C12A360C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0712D-BF83-4FC0-A269-DEFDC17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9F85C-525E-41DC-883A-8F250528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898-3C40-4A59-AF8F-719FC1D17D7C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6E9-7C30-4261-BA9E-22E818A31A20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FD8-BB13-4D0C-A9E1-B8B55D4AC86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8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9"/>
            <p:cNvSpPr/>
            <p:nvPr/>
          </p:nvSpPr>
          <p:spPr>
            <a:xfrm flipH="1" rot="5400000">
              <a:off x="3332160" y="3385080"/>
              <a:ext cx="6867360" cy="7164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H="1" rot="5400000">
              <a:off x="6351840" y="2513880"/>
              <a:ext cx="825480" cy="7164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H="1" rot="5400000">
              <a:off x="6352560" y="1688760"/>
              <a:ext cx="823680" cy="7164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H="1" rot="5400000">
              <a:off x="6352560" y="865080"/>
              <a:ext cx="823680" cy="7164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AF9-565E-4FA6-A206-5E0FA4CF7CE9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9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E38-F78F-47A3-B524-6BFB268D9CCF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5A07-F0EC-4443-9903-1D7F9AAFDDA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9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584-28CC-4388-BDA0-B4DD674AFF1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791B-F1E0-4E37-B42F-386C5AA0296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9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65E5-3CDA-4D4D-B670-9DF4B3847CB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9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72A-FB39-46B1-B896-13DBB342BFD9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9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C8D5-B3ED-4BCD-A1B0-99A0C35DB6C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b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0"/>
            <a:ext cx="9150120" cy="6291360"/>
            <a:chOff x="-12600" y="0"/>
            <a:chExt cx="9150120" cy="629136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50120" cy="62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9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50B-58A9-4C79-8BFF-3BD82DA198A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Title 1" descr=""/>
          <p:cNvPicPr/>
          <p:nvPr/>
        </p:nvPicPr>
        <p:blipFill>
          <a:blip r:embed="rId1"/>
          <a:stretch/>
        </p:blipFill>
        <p:spPr>
          <a:xfrm>
            <a:off x="609480" y="1725480"/>
            <a:ext cx="7925040" cy="1567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200040" y="35053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 how we communic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one ano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Ed\AppData\Local\Microsoft\Windows\Temporary Internet Files\Content.IE5\FMUEA5JS\MPj04074050000[1].jpg"/>
          <p:cNvPicPr/>
          <p:nvPr/>
        </p:nvPicPr>
        <p:blipFill>
          <a:blip r:embed="rId2"/>
          <a:stretch/>
        </p:blipFill>
        <p:spPr>
          <a:xfrm>
            <a:off x="380880" y="3505320"/>
            <a:ext cx="29606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conclusion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arizing brings the main ideas into clear focus, and ends a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bring new ideas 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one summarize what we have learned so fa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get too excited, we still have some learning to do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5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o you have a friend who is just really bad at listening to you and understanding how you feel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ould say that they are not very empathet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ot 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thetic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!  Empathetic!!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is means that they do not recognize and connect with your feelings and emo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like the kid outside the principal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 office,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think that anyone is listening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ow do you show empathy with your friends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7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Ed\AppData\Local\Microsoft\Windows\Temporary Internet Files\Content.IE5\PN15L7HY\MCj00890440000[1].wmf"/>
          <p:cNvPicPr/>
          <p:nvPr/>
        </p:nvPicPr>
        <p:blipFill>
          <a:blip r:embed="rId2"/>
          <a:stretch/>
        </p:blipFill>
        <p:spPr>
          <a:xfrm>
            <a:off x="7620120" y="152280"/>
            <a:ext cx="1236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g on would ya?  I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ve got a call…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any of you have been interrupted by a friend who wasn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 paying attention to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does a situation like this impact you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nimizing distractions is more than just cell phones, and making eyes with another classmate while a friend is talking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has to do with hearing and respecting the other perso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at distracts you from a conversation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ow might you minimize these?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Title 2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8242200" cy="1146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C:\Users\Ed\AppData\Local\Microsoft\Windows\Temporary Internet Files\Content.IE5\FMUEA5JS\MCBD19973_0000[1].wmf"/>
          <p:cNvPicPr/>
          <p:nvPr/>
        </p:nvPicPr>
        <p:blipFill>
          <a:blip r:embed="rId2"/>
          <a:stretch/>
        </p:blipFill>
        <p:spPr>
          <a:xfrm>
            <a:off x="7543800" y="152280"/>
            <a:ext cx="1379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feel when someone picks on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probably started your answer off with,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I am picked on I feel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what we call an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always begin with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statements help to convey your feelings without offending the opposing party.  And they really work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a general formula for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C:\Users\Ed\AppData\Local\Microsoft\Windows\Temporary Internet Files\Content.IE5\CR16WL53\MPj03857320000[1].jpg"/>
          <p:cNvPicPr/>
          <p:nvPr/>
        </p:nvPicPr>
        <p:blipFill>
          <a:blip r:embed="rId2"/>
          <a:stretch/>
        </p:blipFill>
        <p:spPr>
          <a:xfrm>
            <a:off x="133200" y="152280"/>
            <a:ext cx="1482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Title 3" descr=""/>
          <p:cNvPicPr/>
          <p:nvPr/>
        </p:nvPicPr>
        <p:blipFill>
          <a:blip r:embed="rId1"/>
          <a:stretch/>
        </p:blipFill>
        <p:spPr>
          <a:xfrm>
            <a:off x="652320" y="4346640"/>
            <a:ext cx="7845480" cy="14256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the formula in #1 to construct a sentence of your own.  I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easy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_(feeling)_ when you _(event)_ because _(impact on you)_ 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____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____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499"/>
              </a:spcBef>
              <a:buClr>
                <a:srgbClr val="0536b3"/>
              </a:buClr>
              <a:buSzPct val="7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feel silly when you dress up as a clown because you trick me with your electric hand thingy.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k now… finally… try summariz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ve we learned so f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now going to partner up to practice these skil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8" name="Title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5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0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this presentation we will cover the following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ve Listening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ye contact, posture, and body langu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aphrasing, clarifying, and verifying percep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athy, summarizing, and minimizing dis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llowing this presentation you will be asked to practice these skill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e sure to follow along using your </a:t>
            </a:r>
            <a:r>
              <a:rPr b="0" lang="ja-JP" sz="2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tudent Handout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elling your friend a story, how do you know they are listen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listening skills are those behaviors that tell someone who is talking that you are listening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two main categories of active listening ski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8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50012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are talking to someone, how do you know they are listening to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ye contact is very important for activ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s communicate a lot with their eyes, therefore if the eyes are wondering it is probably a sign that the mind is not paying atten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o much of a good thing: make eye contact but don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 star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Ed\AppData\Local\Microsoft\Windows\Temporary Internet Files\Content.IE5\CR16WL53\MPj04285880000[1].jpg"/>
          <p:cNvPicPr/>
          <p:nvPr/>
        </p:nvPicPr>
        <p:blipFill>
          <a:blip r:embed="rId2"/>
          <a:stretch/>
        </p:blipFill>
        <p:spPr>
          <a:xfrm>
            <a:off x="7315200" y="152280"/>
            <a:ext cx="1508040" cy="100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off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dy post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ed arms indicate that the listener is not receptive to the speaker or the convers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itive body language: listener facing speaker, open posture, relaxed, smiling, and head nod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3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Ed\AppData\Local\Microsoft\Windows\Temporary Internet Files\Content.IE5\PN15L7HY\MPj04223670000[1].jpg"/>
          <p:cNvPicPr/>
          <p:nvPr/>
        </p:nvPicPr>
        <p:blipFill>
          <a:blip r:embed="rId2"/>
          <a:stretch/>
        </p:blipFill>
        <p:spPr>
          <a:xfrm>
            <a:off x="7924680" y="152280"/>
            <a:ext cx="81612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at after me… paraphrasing is the act of restating someone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words back to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 are list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ing shows your understanding of what the speaker was say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 what is paraphrasin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6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C:\Users\Ed\AppData\Local\Microsoft\Windows\Temporary Internet Files\Content.IE5\FMUEA5JS\MPj04265130000[1].jpg"/>
          <p:cNvPicPr/>
          <p:nvPr/>
        </p:nvPicPr>
        <p:blipFill>
          <a:blip r:embed="rId2"/>
          <a:stretch/>
        </p:blipFill>
        <p:spPr>
          <a:xfrm>
            <a:off x="8153280" y="152280"/>
            <a:ext cx="730440" cy="10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9976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 me get this straight…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is a common format for a verifying perceptions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ifying perceptions is used by a listener when they are confused by the speaker and they want to make sure they are following the convers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so gives the speaker feed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other ways you have tried to verify perceptions when listening to your friend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C:\Users\Ed\AppData\Local\Microsoft\Windows\Temporary Internet Files\Content.IE5\A680A242\MPj04038180000[1].jpg"/>
          <p:cNvPicPr/>
          <p:nvPr/>
        </p:nvPicPr>
        <p:blipFill>
          <a:blip r:embed="rId2"/>
          <a:stretch/>
        </p:blipFill>
        <p:spPr>
          <a:xfrm>
            <a:off x="228600" y="152280"/>
            <a:ext cx="1676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as mud…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metimes conversations can get confusing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 and so did such and such which lead you know who to say you don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 even want to know what!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arifying sentences can help you, the listener, lay it all out for the speaker to make sure everything is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normal, clear conversations, clarifying can just make sure that you and the speaker agre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2" name="Title 2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8248680" cy="1146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Users\Ed\AppData\Local\Microsoft\Windows\Temporary Internet Files\Content.IE5\CR16WL53\MPj03826740000[1].jpg"/>
          <p:cNvPicPr/>
          <p:nvPr/>
        </p:nvPicPr>
        <p:blipFill>
          <a:blip r:embed="rId2"/>
          <a:stretch/>
        </p:blipFill>
        <p:spPr>
          <a:xfrm>
            <a:off x="7696080" y="152280"/>
            <a:ext cx="116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1:37:07Z</dcterms:created>
  <dc:creator>Ed Ingman</dc:creator>
  <dc:description/>
  <dc:language>en-US</dc:language>
  <cp:lastModifiedBy>Aimee St. Hilaire</cp:lastModifiedBy>
  <dcterms:modified xsi:type="dcterms:W3CDTF">2012-03-26T17:14:11Z</dcterms:modified>
  <cp:revision>6</cp:revision>
  <dc:subject/>
  <dc:title>Interpersonal and Communication Process</dc:title>
</cp:coreProperties>
</file>