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3E45-4FE3-4A02-BC54-C00CE127F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BDC0-5E6D-4C4C-8133-F574C547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0DAE-EF9A-4122-86F9-2D8B20C5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7927-C3B7-4532-B343-A278F318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243-3AB7-4A93-B8B5-EB76ACAA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E37-A60C-4178-9B9D-8EAF106F0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08DF-0C05-4E1C-B209-11D87BFE8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44A4-1650-45B7-B60A-12339184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7912-5687-4019-9E7A-E2EC66BA3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BA7-D4DE-4FC1-8222-3AC7251F5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8705-1E2B-469B-A49F-A65066C41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FEC7-D9A9-4958-BBE0-700BB90D2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08B-387C-4F97-A7BD-63563B2D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FE7F-588A-47A1-8CE5-559C2146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BCF7-72AC-42C4-988C-5B6B129C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6AB4-C377-4F6B-9EE3-3FC90604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30D-3F5C-4CD6-8FA5-A15552BD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B62-DC46-47E6-8111-E6FF7783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1AC57-0FCD-4912-9D5E-9CA5D56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8A93F-66CF-4DF8-A2A6-C4C65A5C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3DE3-B01E-4856-9580-B817CA43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8717A-7D0C-4CF1-975B-2310A68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50207-D8FE-44F9-A118-503D6D1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E4B9-5708-4A7F-BDA0-82E45D4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EDE47-FA11-4343-96DA-BFC3AD5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302F8-C795-4262-A83A-94D608D8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14C48-24C9-413A-A4B5-D34F4115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567DB-35F4-4A87-AF49-2B303C01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988-7B38-4BED-917D-D20DDE41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AE155-09EC-4F25-B626-8099DDF7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8DAF7-0EFC-40D7-A662-1525C43C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2D9D8-EE89-4236-9E90-8D7DF205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BEBB5-31AD-4464-AE42-74AF18A9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960AA-181E-486A-80AD-A1DAF8CE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13263-4E33-4EF3-B694-CD4A13D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8D1A5-F242-4151-A84A-E9097C4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45077-368B-4486-8107-DB62C9B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710BE-0563-4594-91D5-63C87B27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3AB0F-7937-4574-BDEF-ED52E710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AB3-DB3A-42AC-A3F7-08164369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68798-403A-4F75-B6CA-5F501115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5CCC-2B4B-414B-95D0-67E35C09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7A5F-4EE3-46E9-A974-0A23165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A9F34-D5FB-4809-AB56-420A1D34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7E13C-A5D3-4EBC-9329-D76CD09C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56ACC-EEB5-44FA-B5E3-3E82870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865E4-BB42-43F0-A938-4B2BEA52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6A9B9-72C8-4BD7-8C1C-C087916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81CBB-2E04-4DB9-B0F6-1A28C0A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F4061-42E6-4379-84FA-B06B9B6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FE82-6D1C-4132-91D0-5640587D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D7E61-9305-426C-8939-4C09062F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3F91-2C4D-4D55-88BA-A9659CC8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FAE37-263C-4B47-8902-9EC6578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CBDA3-2166-41A6-90B8-DED397B8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99FD6-0EAA-4204-8229-73F662D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04214-065E-4AF3-9E4E-8C743B9A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9A2A1-43B3-43D5-AF20-E37F944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502EF-9D2E-4C6B-AC69-976B3B3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ED266-ED58-4BAB-BFEB-3963968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DB24E-3196-4E0F-844A-FDC9ACC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21A4-03CB-4E2A-BC2B-9B86125E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29307-D8C5-4FB4-A314-A2C70B2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351C5-8DD2-4DB5-A3EC-2ABE2C3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91A29-F33E-4C92-90BC-11EA2E5F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9BD63-7B80-41E3-AA23-759989D8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46C4D-59EB-47E8-99B5-0B2D30A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42D6-AB15-48DD-9CF2-F69A240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85A2-AC41-45F0-885B-7627977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906-18FE-4087-966B-2DC7FAB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34E-E8CA-4A66-8EF3-7C1E078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1443-4056-4D98-9A63-29EE726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286-55FE-448F-B1E3-0568AA0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FEAA-79A5-4DEC-90E9-45D8588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968-EE44-4459-A857-46791D7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75EF-A728-4821-8620-EBD75A20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D2C5-786B-431A-847F-30100307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5296-DA95-4ABF-8604-D9C2BCD1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7047-B451-4E8F-9FC3-DF417B2C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7EC4-B1EC-4C47-86B7-49D74A6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3A09-2738-4A6C-890B-24EFB7B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CB6C-543A-4105-B718-566A2BD6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2856-1473-41ED-92AC-59409CB9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473-6FD5-47ED-BA7B-374F2E02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356A-FF3C-454C-B7A8-F2623B7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6442-1D68-43BE-9574-A0DCEC6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4AC7-37DA-4432-8C8F-98FFFD0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C7CB-296A-4B47-801C-F9A3901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2501-8391-4E88-A5DB-055DAA6A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F480-8D03-426B-A00D-6C883469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8468-CE39-42DA-A8EA-E0160A07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3602-6B23-4FF1-9F6D-619BE77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CDC7-A4B6-49CE-8305-878C3FC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F7BF-47BF-4814-8AF9-9EFDA3A8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304-F53A-4214-A18B-49F1BB02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2962-70BE-452D-9EC4-4E2FCBF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17102-799C-4078-A0BA-F521C44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0B17-5EF9-47AE-8EDD-1BB08FB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F458-145F-4318-9E33-92621F4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E0A8-BA55-4BDF-AAA1-88296F4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C653-280E-4D09-883D-542C8DA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B1F4-1244-4243-8EEE-577EF95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3F98-2FF0-447F-9058-2D917B20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33B5-CD3C-47FA-B164-8A6885A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A5874-259E-430A-B074-36BC6512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E84-1811-48A7-82D6-2E89993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0625-9842-47B0-8C3A-BE91EB8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24BE-075B-4043-BA47-3A5CF27B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B38B-3F28-472A-A093-DE5474D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9C12-B446-4790-AF7A-6A09EBE2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B45BD-6C3C-4C4E-93FD-C309473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27028-421C-45F4-8758-C711065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8376-239B-43D4-A83F-9C82236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FF4E-9B30-488A-A81C-1DAC097C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FF91A-8C8A-402E-A663-CFDD6163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5D61D-6003-4A61-8B9B-58DCDE69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2A6-E0B6-40F9-A27B-23210613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65891-F542-465D-BBAC-AB70C3DE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45AE-C695-4D68-9EF4-C6CC500F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7753-3AA0-4962-AE35-69D2ECB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2612-F7D6-45EB-9D9C-E9098E3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377E5-415F-4EAB-9A40-7D5E074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72D2-F60F-4315-9871-915A1F2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2EDF-4752-41DF-9470-6CB9D30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69F0-E73C-484E-8BFF-6549F2C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7D40B-E474-4C21-B862-B5C98D5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C1B5-683F-42B6-BAA6-F6CEA9C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840-319F-44B2-A83C-170B396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A9AF-F674-46BC-BCB4-50523194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31A9-3239-4F56-9C5D-B73FBD00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9D06C-306C-4D8E-B9E2-01E38A2D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C319-E976-4BAC-8EB9-2E402303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905E-C850-4C02-BB4C-C712C9F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7A00-D39B-4D57-A100-5230E1FE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17C7-3D2F-4071-9E2B-64B16B5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90834-0CE5-4E01-9C65-E359BC36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5A52-13BB-454F-B33F-7A6EBE00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E034-D257-4841-9E62-5E153EB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7E2-0A70-486E-B27B-4B44122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AB39-65D0-4EF7-90C5-422D0F9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B9D4-51A3-4207-A9BA-7EA31A9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658C-41BF-4ADE-A46A-627CD1F3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C2BA6-5FEA-47E1-BA49-62E7D6EF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7C9C3-B900-43C5-BAE7-A1933D74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20719-681D-4323-8961-8AAC139B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F5D9-06BC-4CAC-B35E-27597AFC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9CCE-1C31-45C8-9D71-9D06FBE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B39B-E946-44E7-8E36-A80D256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27382-AE55-4685-90E4-7F4CD592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BB5-05B1-40BB-9AC5-1AC25A0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64A97-572E-4EE2-9A20-2EC7136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CB60-6897-49D1-B544-039D1D8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4039F-2F16-4860-85ED-59A3F1D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4B27D-30DA-400F-AC0D-C79D26D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7BA5-A42D-4EA7-A9B9-AFB215AB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0358B-368D-43C4-95B7-0A39D6AE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87BB-6ABA-48C0-AE80-BE8CB465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627FA-32A0-4790-BD16-E7173DAC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6741-1A6E-41EC-91A4-439911E6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DF7C5-11CF-4D32-85A2-C797D772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892-F0FE-410E-82CD-179D48E13515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83BE-ED17-4CCD-880F-64FF15C01F78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6FD-6424-4B22-9DF3-7F129D8C6B5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8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9"/>
            <p:cNvSpPr/>
            <p:nvPr/>
          </p:nvSpPr>
          <p:spPr>
            <a:xfrm flipH="1" rot="5400000">
              <a:off x="3332160" y="3385080"/>
              <a:ext cx="6867360" cy="7164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 flipH="1" rot="5400000">
              <a:off x="6351840" y="2513880"/>
              <a:ext cx="825480" cy="7164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1"/>
            <p:cNvSpPr/>
            <p:nvPr/>
          </p:nvSpPr>
          <p:spPr>
            <a:xfrm flipH="1" rot="5400000">
              <a:off x="6352560" y="1688760"/>
              <a:ext cx="823680" cy="7164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 flipH="1" rot="5400000">
              <a:off x="6352560" y="865080"/>
              <a:ext cx="823680" cy="7164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722-01D4-4FCB-8C06-649F7D8FAD7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9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7FDB-D146-405E-B8E0-17275953F8C7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AD3-2690-4F82-BE40-AA34781824EC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9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64E5-440C-403E-ADBD-7E5F90724290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3BB-A1C8-4D02-B365-1637B554D55D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74D9-7D9D-45A5-AB37-FF8FF52218E0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55B-ED54-413B-A542-88CF6EDA988A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4CAD-53DF-421A-AB81-2DAAE3F7E0E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9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0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047-649D-4AD8-9289-4F0C9C2604B9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Title 1" descr=""/>
          <p:cNvPicPr/>
          <p:nvPr/>
        </p:nvPicPr>
        <p:blipFill>
          <a:blip r:embed="rId1"/>
          <a:stretch/>
        </p:blipFill>
        <p:spPr>
          <a:xfrm>
            <a:off x="609480" y="1725480"/>
            <a:ext cx="7925040" cy="15670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200040" y="35053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 how we communic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one ano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Ed\AppData\Local\Microsoft\Windows\Temporary Internet Files\Content.IE5\FMUEA5JS\MPj04074050000[1].jpg"/>
          <p:cNvPicPr/>
          <p:nvPr/>
        </p:nvPicPr>
        <p:blipFill>
          <a:blip r:embed="rId2"/>
          <a:stretch/>
        </p:blipFill>
        <p:spPr>
          <a:xfrm>
            <a:off x="380880" y="3505320"/>
            <a:ext cx="29606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conclusion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arizing brings the main ideas into clear focus, and ends a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not bring new ideas 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summarize what we have learned so fa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get too excited, we still have some learning to do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o you have a friend who is just really bad at listening to you and understanding how you feel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ould say that they are not very empathet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ot 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thetic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!  Empathetic!!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s means that they do not recognize and connect with your feelings and emotion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like the kid outside the principal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 office,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think that anyone is listening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ow do you show empathy with your friends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7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Ed\AppData\Local\Microsoft\Windows\Temporary Internet Files\Content.IE5\PN15L7HY\MCj00890440000[1].wmf"/>
          <p:cNvPicPr/>
          <p:nvPr/>
        </p:nvPicPr>
        <p:blipFill>
          <a:blip r:embed="rId2"/>
          <a:stretch/>
        </p:blipFill>
        <p:spPr>
          <a:xfrm>
            <a:off x="7620120" y="152280"/>
            <a:ext cx="1236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g on would ya?  I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ve got a call…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any of you have been interrupted by a friend who wasn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 paying attention to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does a situation like this impact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nimizing distractions is more than just cell phones, and making eyes with another classmate while a friend is talking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has to do with hearing and respecting the other perso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What distracts you from a conversation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ight you minimize these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Title 2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8242200" cy="1146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C:\Users\Ed\AppData\Local\Microsoft\Windows\Temporary Internet Files\Content.IE5\FMUEA5JS\MCBD19973_0000[1].wmf"/>
          <p:cNvPicPr/>
          <p:nvPr/>
        </p:nvPicPr>
        <p:blipFill>
          <a:blip r:embed="rId2"/>
          <a:stretch/>
        </p:blipFill>
        <p:spPr>
          <a:xfrm>
            <a:off x="7543800" y="152280"/>
            <a:ext cx="1379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3" dur="2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 you feel when someone picks on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probably started your answer off with,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I am picked on I feel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what we call an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always begin with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.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help to convey your feelings without offending the opposing party.  And they really work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a general formula for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s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C:\Users\Ed\AppData\Local\Microsoft\Windows\Temporary Internet Files\Content.IE5\CR16WL53\MPj03857320000[1].jpg"/>
          <p:cNvPicPr/>
          <p:nvPr/>
        </p:nvPicPr>
        <p:blipFill>
          <a:blip r:embed="rId2"/>
          <a:stretch/>
        </p:blipFill>
        <p:spPr>
          <a:xfrm>
            <a:off x="133200" y="152280"/>
            <a:ext cx="1482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Title 3" descr=""/>
          <p:cNvPicPr/>
          <p:nvPr/>
        </p:nvPicPr>
        <p:blipFill>
          <a:blip r:embed="rId1"/>
          <a:stretch/>
        </p:blipFill>
        <p:spPr>
          <a:xfrm>
            <a:off x="652320" y="4346640"/>
            <a:ext cx="7845480" cy="14256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the formula in #1 to construct a sentence of your own.  I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easy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_(feeling)_ when you _(event)_ because _(impact on you)_ 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____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you trick me with your electric hand thingy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9" dur="20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k now… finally… try summarizing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have we learned so far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now going to partner up to practice these skil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8" name="Title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n this presentation we will cover the following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ve Listening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ye contact, posture, and body langu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aphrasing, clarifying, and verifying percep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athy, summarizing, and minimizing dist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llowing this presentation you will be asked to practice these skill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e sure to follow along using your 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tudent Handout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elling your friend a story, how do you know they are listen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listening skills are those behaviors that tell someone who is talking that you are listening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two main categories of active listening skill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50012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alking to someone, how do you know they are listening to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ye contact is very important for activ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s communicate a lot with their eyes, therefore if the eyes are wondering it is probably a sign that the mind is not paying atten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o much of a good thing: make eye contact but 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star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Ed\AppData\Local\Microsoft\Windows\Temporary Internet Files\Content.IE5\CR16WL53\MPj04285880000[1].jpg"/>
          <p:cNvPicPr/>
          <p:nvPr/>
        </p:nvPicPr>
        <p:blipFill>
          <a:blip r:embed="rId2"/>
          <a:stretch/>
        </p:blipFill>
        <p:spPr>
          <a:xfrm>
            <a:off x="7315200" y="152280"/>
            <a:ext cx="1508040" cy="100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off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dy postu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ossed arms indicate that the listener is not receptive to the speaker or the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itive body language: listener facing speaker, open posture, relaxed, smiling, and head nod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Users\Ed\AppData\Local\Microsoft\Windows\Temporary Internet Files\Content.IE5\PN15L7HY\MPj04223670000[1].jpg"/>
          <p:cNvPicPr/>
          <p:nvPr/>
        </p:nvPicPr>
        <p:blipFill>
          <a:blip r:embed="rId2"/>
          <a:stretch/>
        </p:blipFill>
        <p:spPr>
          <a:xfrm>
            <a:off x="7924680" y="152280"/>
            <a:ext cx="81612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at after me… paraphrasing is the act of restating someon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words back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 ar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r understanding of what the speaker was say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 what is paraphras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C:\Users\Ed\AppData\Local\Microsoft\Windows\Temporary Internet Files\Content.IE5\FMUEA5JS\MPj04265130000[1].jpg"/>
          <p:cNvPicPr/>
          <p:nvPr/>
        </p:nvPicPr>
        <p:blipFill>
          <a:blip r:embed="rId2"/>
          <a:stretch/>
        </p:blipFill>
        <p:spPr>
          <a:xfrm>
            <a:off x="8153280" y="152280"/>
            <a:ext cx="73044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9976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 me get this straight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a common format for a verifying perceptions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ifying perceptions is used by a listener when they are confused by the speaker and they want to make sure they are following the convers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also gives the speaker feedbac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other ways you have tried to verify perceptions when listening to your friend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C:\Users\Ed\AppData\Local\Microsoft\Windows\Temporary Internet Files\Content.IE5\A680A242\MPj04038180000[1].jpg"/>
          <p:cNvPicPr/>
          <p:nvPr/>
        </p:nvPicPr>
        <p:blipFill>
          <a:blip r:embed="rId2"/>
          <a:stretch/>
        </p:blipFill>
        <p:spPr>
          <a:xfrm>
            <a:off x="228600" y="152280"/>
            <a:ext cx="1676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s mud…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metimes conversations can get confusing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and so did such and such which lead you know who to say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even want to know what!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arifying sentences can help you, the listener, lay it all out for the speaker to make sure everything is cle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normal, clear conversations, clarifying can just make sure that you and the speaker agre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2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C:\Users\Ed\AppData\Local\Microsoft\Windows\Temporary Internet Files\Content.IE5\CR16WL53\MPj03826740000[1].jpg"/>
          <p:cNvPicPr/>
          <p:nvPr/>
        </p:nvPicPr>
        <p:blipFill>
          <a:blip r:embed="rId2"/>
          <a:stretch/>
        </p:blipFill>
        <p:spPr>
          <a:xfrm>
            <a:off x="7696080" y="15228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1:37:07Z</dcterms:created>
  <dc:creator>Ed Ingman</dc:creator>
  <dc:description/>
  <dc:language>en-US</dc:language>
  <cp:lastModifiedBy>Aimee St. Hilaire</cp:lastModifiedBy>
  <dcterms:modified xsi:type="dcterms:W3CDTF">2012-03-26T17:14:11Z</dcterms:modified>
  <cp:revision>6</cp:revision>
  <dc:subject/>
  <dc:title>Interpersonal and Communication Process</dc:title>
</cp:coreProperties>
</file>