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2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B37A-ADA6-41E0-B89E-9FEA132A2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A4F5-0B50-4AC0-ACF9-C98C66E25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7AF6-B0EF-4FC4-96E1-F5063A85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8092-10D9-4786-991D-E216C4E7F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DC43-E02F-4300-A3A7-2CED9454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C09A-B623-47F5-B4DC-D8FFE1D16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3EDB-94EF-45BB-905D-BAA68FEF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245E-006B-4CCD-A475-A0D4E846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6036-20A8-430B-8241-870A6778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C7B9-A6BC-49AE-8410-F4251724B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63EC-B2F7-4980-BB24-FE74BDFE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933D-A2E0-40AA-868E-607EF2BF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6CCF-E005-429D-91E4-FDAD4CFB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568-0624-4260-9CCC-8818553B5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3D31-D04A-47C6-9918-C84074CD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B1CE-6F61-426F-96BB-57E50E91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75E-69B6-4F0D-9BD2-E3C4235D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DAF-327E-40D0-83DD-AB7544B7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19C89-8C71-4B01-9C36-C50D1A5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40ABA-C935-4567-B46F-7965F14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C136F-022F-4773-9A10-E52F0653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4DA9B-A169-4F65-A86D-AA4C98E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B5B28-C1AE-4534-B5EE-BA73F362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84256-4599-4655-B2CE-0591732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8627F-B4B9-4532-999E-D588D550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72A1B-EE46-49A8-A6A7-E84299F2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B3BBE-92C6-42F4-B8D4-9AA5892F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3BA61-B7D3-40A0-A1AA-1F6BFB7E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C38-3012-4CFE-A814-61E6B42C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209BA-9130-46BF-A435-9FCE070C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EBEEA-5FE5-4A77-870E-7D0FF541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39A8F-7EB6-4A1B-80D9-C51A9747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97792-3A1D-424D-AA14-984DD055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BFAB9-B4E5-4E34-AD87-485512E6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80C42-143C-4A12-A41A-1AFDAC2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38948-688B-4462-A517-59909AC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2A487-4DB2-411B-8132-8FBAA4B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D234C-A26A-485F-BBF0-A7978465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7F106-06EF-4D75-B978-92709FD4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EF5-6EE4-4F27-ABCC-ADCB9FEE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5C7BF-3901-4F7E-9DAF-B4F62CFC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A0121-7114-44C2-A8C1-D8A5B438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C902C-72C8-4FD8-8A88-657DC11D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66F65-4DE8-4B06-BCF0-69F28908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C5A5B-8BCA-4ED5-ABCB-7D516C6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F1CEA-F880-417F-B619-A3856865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7C3E4-7B0D-4598-AC4B-C367BF4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16766-AD66-4BA6-B758-2EA12395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F3A01-71D1-4EE7-9B6E-1F0392C4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A7204-EE50-47BC-AE9F-6E0E6B79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4B72-CF28-4A8A-9682-83221FCB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F5B62-50C0-422F-8FB9-C0CBD4C1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61C38-6024-4E72-9B13-33724B6C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21762-1807-4AF7-A3D8-0507C59F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A6A3C-4FD2-4D91-BEFB-5D4FFD00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2FD7F-03EC-4835-AD8D-7B48573E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67A72-D8A3-4889-8DEF-F179D9F1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165D6-CAB0-424E-AA9D-E307178D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221C5-CA9E-4D2E-97C2-B3482885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3D635-5433-4B8D-AC54-E7CA170F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6BD3E-BC8D-4DF7-875B-7A83E618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374E-4AF1-4BF2-B400-BDD54322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7D0D9-5764-48D7-BF9C-92E8135C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A7904-37EC-41A4-A4A1-CCA7BE31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0BD0F-4308-4946-B657-EC345B7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B7044-1621-4020-B56C-64829B2E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B5252-F5D1-4923-8A06-26D56659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DE4B-436B-49C7-97F2-7CBC8D6A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6D93-D3C9-4B83-9C21-CB290A4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7AB9-E33C-401B-B305-C51A36B8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FD60-1AB9-4EB6-93EB-547FB743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67D2-99A4-464D-9460-9BE8D289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65C-0A43-48CD-908A-2AED7A47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5876-1D3A-44B5-89FA-29A8D277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EA78-C22C-4D5F-81E6-996124C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1CE9-E33E-4812-B17F-DB67504B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ED74-9052-4230-A2E6-3F02A62B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D94A-2DB7-4722-B563-DAB1A028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EE64-6445-4EED-9E27-502627EF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9A984-9DEB-46D4-9C5B-80AD1647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8C8B-E45D-449D-AEA0-EB83465D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0837-30F6-4EC5-8C17-A0CDAA4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FCA7-2BE5-480B-A8EF-FF296AFB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61C-4FB9-4258-94FF-B2D6C56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BB62-3002-4EA4-967E-C2A38975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2012-A324-41F6-8EDD-6EAFB46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629C-30C7-43AE-8D8A-5F0B54AC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B0C8-0BBD-409A-9A92-C25BCEC3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1B831-2E4B-460E-9587-2A6E2086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869F-EF67-4E99-AB28-52C94061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1B25-DA07-467A-AA0E-D1FAAB16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2B7A-68BE-4AF5-A5BF-088423D0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9B016-F16D-4F8C-B6D9-506E4FEF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03EA-A9F8-4A91-95CC-DB7A3B67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F85-943A-40F1-8E02-30357D41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2096A-CF2E-4E81-BF90-3ACAFBBE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07461-F099-4265-A749-39BC966D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6574-F74E-49E8-B747-1FB1E7C8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B5B0-E609-4EE2-91BA-8E2B8AD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33F6-4D9E-4CA9-8CD2-FA65BDA1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FD6A-75DD-48B2-A745-2B471357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FEFD8-416D-4815-AC28-E9958F8F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CAA6-A40D-4058-A37D-253A8226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88CF-04A0-4249-AF25-CFF048DC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46D1-9B3F-46DF-B88C-BFC14881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8A0-1FD5-43C9-B546-50CF0056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FE2E0-B033-4AFC-BB59-2C9B078C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DBB0-878C-4A00-ACD0-99F6FDEC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9DEC6-F9D1-454B-9B2E-556E6F24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4F820-8326-441A-BE7E-8B1DDAE8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E3D3-F7C7-475B-A30A-B3D24F27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BF3F-7A84-4DAE-9FF3-171DEA50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E720C-2006-4038-A79C-B23497E7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87E3A-3E5E-4DF8-8680-C901C31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1E6CE-0E23-4ACF-B441-4C5DDCF5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376C2-E3C4-48CE-85AA-846A3765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88D-1761-4468-95D0-8F4C99E7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5120-15FE-4A59-8F1B-39CF2F85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3E0EC-0A53-4CB8-84E0-F4A0717F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BB312-EA91-4144-89A5-DAD07684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FBFC-9CA7-457F-9F8E-C863012D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4F22D-1C31-4D98-9D97-C77BC74D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16DD-E68D-4931-8497-0B89F24B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098A-256F-48D6-A674-9322C26B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EEAD9-50B3-4375-8BB5-E4A87AAF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E6318-75C0-4F62-B485-AED00AD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645A0-EB3C-4945-B762-5FD95CF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F25-BBE5-44EE-8A1B-B77187B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810D0-7E2B-416A-8283-3BEE2759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E8DA-F010-49A7-8C8E-FFA650DF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94451-8BA5-438A-B8CE-A93F09AE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E1256-AB7D-4474-8171-94A8C85E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4BB4-5215-45DC-83A5-976C985C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0AC59-1293-4BFF-9A47-5E5E80B0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852F1-3BE3-48BE-B32A-958F7FA4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530BE-66DA-47F4-89D7-5C37D78E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21D7D-430C-4EEF-90EF-36EC6576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808DC-5756-42B3-BC97-1DE8D57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868-CA38-45E4-85F0-47141131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91D1-4D52-42D5-8B10-E058248A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12E49-4134-4B08-A088-09D7E90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79A6-6A3F-4C07-B385-EC9DD97C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0DA03-A5D9-43D1-9CF2-286BA53B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7B407-C2EB-4A5B-8D02-863A13CA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B38D9-83BF-4716-A5C1-05B980FA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AF6AA-C966-45D5-AEF9-9E4520F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D95CF-AFD2-4167-9775-821F1230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33ABA-5D81-486F-AB54-B0C5DEB8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9C39E-9F4D-4CDB-91D5-3DF8CD30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4A1-33E8-453A-98EA-A9FA5824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0354-63AB-42B5-B028-E8DA0242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4D8A5-9898-4165-A0F8-2604FAE9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4FF79-3BD9-48C4-8369-A33408D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7B4BC-6D30-4F82-B511-CD5D60FC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6F79F-E892-42D4-BDD2-4F5CA23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09BFF-1881-4543-B12F-A421F92B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E96B2-16C0-44E8-9394-7D53C5D1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6227C-9200-4E10-B6D0-1F6C515B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859A0-8FE4-4553-9310-5BE69AC3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755A2-08A7-43DD-9247-FAF10D19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6468-3D0B-45AD-8A10-3E97D073176E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37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440" name="Rectangle 9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1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2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CB19-ABBA-46D0-97D8-09708A41DA74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86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489" name="Rectangle 9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0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2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B225-D112-4666-A269-756FFD5CB373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535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8"/>
          <p:cNvGrpSpPr/>
          <p:nvPr/>
        </p:nvGrpSpPr>
        <p:grpSpPr>
          <a:xfrm>
            <a:off x="6729120" y="-12600"/>
            <a:ext cx="73080" cy="6867360"/>
            <a:chOff x="6729120" y="-12600"/>
            <a:chExt cx="73080" cy="6867360"/>
          </a:xfrm>
        </p:grpSpPr>
        <p:sp>
          <p:nvSpPr>
            <p:cNvPr id="538" name="Rectangle 9"/>
            <p:cNvSpPr/>
            <p:nvPr/>
          </p:nvSpPr>
          <p:spPr>
            <a:xfrm flipH="1" rot="5400000">
              <a:off x="3332160" y="3385080"/>
              <a:ext cx="6867360" cy="7164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0"/>
            <p:cNvSpPr/>
            <p:nvPr/>
          </p:nvSpPr>
          <p:spPr>
            <a:xfrm flipH="1" rot="5400000">
              <a:off x="6351840" y="2513880"/>
              <a:ext cx="825480" cy="7164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1"/>
            <p:cNvSpPr/>
            <p:nvPr/>
          </p:nvSpPr>
          <p:spPr>
            <a:xfrm flipH="1" rot="5400000">
              <a:off x="6352560" y="1688760"/>
              <a:ext cx="823680" cy="7164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2"/>
            <p:cNvSpPr/>
            <p:nvPr/>
          </p:nvSpPr>
          <p:spPr>
            <a:xfrm flipH="1" rot="5400000">
              <a:off x="6352560" y="865080"/>
              <a:ext cx="823680" cy="7164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4"/>
          </p:nvPr>
        </p:nvSpPr>
        <p:spPr>
          <a:xfrm>
            <a:off x="6838920" y="6356520"/>
            <a:ext cx="18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1784-70D0-42F2-87D1-B168B2040281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48" name="Rectangle 9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6278760" y="326880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7375680" y="326880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B57E-281E-436C-9B97-2FD69F16E840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97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EBBD-2FD9-4F8D-98AE-0DF7C64BE34F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43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0" y="4229280"/>
            <a:ext cx="9144000" cy="145800"/>
            <a:chOff x="0" y="4229280"/>
            <a:chExt cx="9144000" cy="145800"/>
          </a:xfrm>
        </p:grpSpPr>
        <p:sp>
          <p:nvSpPr>
            <p:cNvPr id="146" name="Rectangle 9"/>
            <p:cNvSpPr/>
            <p:nvPr/>
          </p:nvSpPr>
          <p:spPr>
            <a:xfrm flipH="1">
              <a:off x="0" y="422928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 flipH="1">
              <a:off x="2865240" y="422928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 flipH="1">
              <a:off x="1767960" y="422928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 flipH="1">
              <a:off x="669600" y="422928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5C67-BB5E-4E49-8294-85092BC50C71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92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95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5DD2-BA92-4E1F-B285-89CA711C186D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24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44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3C09-A105-4E7D-8D74-C48C631426A4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290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93" name="Rectangle 9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0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A469-AA32-421A-99D4-6CDFC8E4996E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339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0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342" name="Rectangle 9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1A40-6AA5-4D0D-ADB8-F26CFD2D897E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388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0" y="1143000"/>
            <a:ext cx="9144000" cy="73080"/>
            <a:chOff x="0" y="1143000"/>
            <a:chExt cx="9144000" cy="73080"/>
          </a:xfrm>
        </p:grpSpPr>
        <p:sp>
          <p:nvSpPr>
            <p:cNvPr id="391" name="Rectangle 9"/>
            <p:cNvSpPr/>
            <p:nvPr/>
          </p:nvSpPr>
          <p:spPr>
            <a:xfrm flipH="1">
              <a:off x="0" y="11430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0"/>
            <p:cNvSpPr/>
            <p:nvPr/>
          </p:nvSpPr>
          <p:spPr>
            <a:xfrm flipH="1">
              <a:off x="2865240" y="11430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1"/>
            <p:cNvSpPr/>
            <p:nvPr/>
          </p:nvSpPr>
          <p:spPr>
            <a:xfrm flipH="1">
              <a:off x="1767960" y="11430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2"/>
            <p:cNvSpPr/>
            <p:nvPr/>
          </p:nvSpPr>
          <p:spPr>
            <a:xfrm flipH="1">
              <a:off x="669600" y="11430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A19F-D405-4E85-9852-12CBBC306653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Title 1" descr=""/>
          <p:cNvPicPr/>
          <p:nvPr/>
        </p:nvPicPr>
        <p:blipFill>
          <a:blip r:embed="rId1"/>
          <a:stretch/>
        </p:blipFill>
        <p:spPr>
          <a:xfrm>
            <a:off x="609480" y="1725480"/>
            <a:ext cx="7925040" cy="15670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200040" y="35053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 how we communica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one anot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Ed\AppData\Local\Microsoft\Windows\Temporary Internet Files\Content.IE5\FMUEA5JS\MPj04074050000[1].jpg"/>
          <p:cNvPicPr/>
          <p:nvPr/>
        </p:nvPicPr>
        <p:blipFill>
          <a:blip r:embed="rId2"/>
          <a:stretch/>
        </p:blipFill>
        <p:spPr>
          <a:xfrm>
            <a:off x="380880" y="3505320"/>
            <a:ext cx="296064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conclusion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mmarizing brings the main ideas into clear focus, and ends a convers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not bring new ideas 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summarize what we have learned so far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get too excited, we still have some learning to do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5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o you have a friend who is just really bad at listening to you and understanding how you feel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ould say that they are not very empathet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ot 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athetic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!  Empathetic!!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s means that they do not recognize and connect with your feelings and emotion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 like the kid outside the principal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 office, you don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 think that anyone is listening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ow do you show empathy with your friends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7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C:\Users\Ed\AppData\Local\Microsoft\Windows\Temporary Internet Files\Content.IE5\PN15L7HY\MCj00890440000[1].wmf"/>
          <p:cNvPicPr/>
          <p:nvPr/>
        </p:nvPicPr>
        <p:blipFill>
          <a:blip r:embed="rId2"/>
          <a:stretch/>
        </p:blipFill>
        <p:spPr>
          <a:xfrm>
            <a:off x="7620120" y="152280"/>
            <a:ext cx="1236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g on would ya?  I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ve got a call…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many of you have been interrupted by a friend who wasn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 paying attention to you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does a situation like this impact you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nimizing distractions is more than just cell phones, and making eyes with another classmate while a friend is talking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t has to do with hearing and respecting the other person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What distracts you from a conversation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might you minimize these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0" name="Title 2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8242200" cy="11462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C:\Users\Ed\AppData\Local\Microsoft\Windows\Temporary Internet Files\Content.IE5\FMUEA5JS\MCBD19973_0000[1].wmf"/>
          <p:cNvPicPr/>
          <p:nvPr/>
        </p:nvPicPr>
        <p:blipFill>
          <a:blip r:embed="rId2"/>
          <a:stretch/>
        </p:blipFill>
        <p:spPr>
          <a:xfrm>
            <a:off x="7543800" y="152280"/>
            <a:ext cx="1379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2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 you feel when someone picks on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probably started your answer off with,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I am picked on I feel…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what we call an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atements always begin with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.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atements help to convey your feelings without offending the opposing party.  And they really work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a general formula for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s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3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C:\Users\Ed\AppData\Local\Microsoft\Windows\Temporary Internet Files\Content.IE5\CR16WL53\MPj03857320000[1].jpg"/>
          <p:cNvPicPr/>
          <p:nvPr/>
        </p:nvPicPr>
        <p:blipFill>
          <a:blip r:embed="rId2"/>
          <a:stretch/>
        </p:blipFill>
        <p:spPr>
          <a:xfrm>
            <a:off x="133200" y="152280"/>
            <a:ext cx="1482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7" dur="5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Title 3" descr=""/>
          <p:cNvPicPr/>
          <p:nvPr/>
        </p:nvPicPr>
        <p:blipFill>
          <a:blip r:embed="rId1"/>
          <a:stretch/>
        </p:blipFill>
        <p:spPr>
          <a:xfrm>
            <a:off x="652320" y="4346640"/>
            <a:ext cx="7845480" cy="14256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5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 the formula in #1 to construct a sentence of your own.  I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easy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_(feeling)_ when you _(event)_ because _(impact on you)_ 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____ because ____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dress up as a clown because ____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dress up as a clown because you trick me with your electric hand thingy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6" dur="20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k now… finally… try summarizing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have we learned so far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now going to partner up to practice these skil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8" name="Title 3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n this presentation we will cover the following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ve Listening Ski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ye contact, posture, and body langu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aphrasing, clarifying, and verifying percep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pathy, summarizing, and minimizing distr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llowing this presentation you will be asked to practice these skill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e sure to follow along using your 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tudent Handout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are telling your friend a story, how do you know they are listen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6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e listening skills are those behaviors that tell someone who is talking that you are listening to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two main categories of active listening skill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dy 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8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500120"/>
            <a:ext cx="8229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are talking to someone, how do you know they are listening to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ye contact is very important for active liste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s communicate a lot with their eyes, therefore if the eyes are wondering it is probably a sign that the mind is not paying atten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o much of a good thing: make eye contact but don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stare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0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Users\Ed\AppData\Local\Microsoft\Windows\Temporary Internet Files\Content.IE5\CR16WL53\MPj04285880000[1].jpg"/>
          <p:cNvPicPr/>
          <p:nvPr/>
        </p:nvPicPr>
        <p:blipFill>
          <a:blip r:embed="rId2"/>
          <a:stretch/>
        </p:blipFill>
        <p:spPr>
          <a:xfrm>
            <a:off x="7315200" y="152280"/>
            <a:ext cx="1508040" cy="1006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off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dy postu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ossed arms indicate that the listener is not receptive to the speaker or the convers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sitive body language: listener facing speaker, open posture, relaxed, smiling, and head nod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3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C:\Users\Ed\AppData\Local\Microsoft\Windows\Temporary Internet Files\Content.IE5\PN15L7HY\MPj04223670000[1].jpg"/>
          <p:cNvPicPr/>
          <p:nvPr/>
        </p:nvPicPr>
        <p:blipFill>
          <a:blip r:embed="rId2"/>
          <a:stretch/>
        </p:blipFill>
        <p:spPr>
          <a:xfrm>
            <a:off x="7924680" y="152280"/>
            <a:ext cx="81612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eat after me… paraphrasing is the act of restating someone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words back to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ing shows you are liste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ing shows your understanding of what the speaker was say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 what is paraphras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6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C:\Users\Ed\AppData\Local\Microsoft\Windows\Temporary Internet Files\Content.IE5\FMUEA5JS\MPj04265130000[1].jpg"/>
          <p:cNvPicPr/>
          <p:nvPr/>
        </p:nvPicPr>
        <p:blipFill>
          <a:blip r:embed="rId2"/>
          <a:stretch/>
        </p:blipFill>
        <p:spPr>
          <a:xfrm>
            <a:off x="8153280" y="152280"/>
            <a:ext cx="73044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2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9976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 me get this straight…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a common format for a verifying perceptions sent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ifying perceptions is used by a listener when they are confused by the speaker and they want to make sure they are following the convers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also gives the speaker feedbac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other ways you have tried to verify perceptions when listening to your friend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9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C:\Users\Ed\AppData\Local\Microsoft\Windows\Temporary Internet Files\Content.IE5\A680A242\MPj04038180000[1].jpg"/>
          <p:cNvPicPr/>
          <p:nvPr/>
        </p:nvPicPr>
        <p:blipFill>
          <a:blip r:embed="rId2"/>
          <a:stretch/>
        </p:blipFill>
        <p:spPr>
          <a:xfrm>
            <a:off x="228600" y="152280"/>
            <a:ext cx="1676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as mud…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metimes conversations can get confusing.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 and so did such and such which lead you know who to say you don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 even want to know what!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arifying sentences can help you, the listener, lay it all out for the speaker to make sure everything is cle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normal, clear conversations, clarifying can just make sure that you and the speaker agre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2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C:\Users\Ed\AppData\Local\Microsoft\Windows\Temporary Internet Files\Content.IE5\CR16WL53\MPj03826740000[1].jpg"/>
          <p:cNvPicPr/>
          <p:nvPr/>
        </p:nvPicPr>
        <p:blipFill>
          <a:blip r:embed="rId2"/>
          <a:stretch/>
        </p:blipFill>
        <p:spPr>
          <a:xfrm>
            <a:off x="7696080" y="152280"/>
            <a:ext cx="116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1:37:07Z</dcterms:created>
  <dc:creator>Ed Ingman</dc:creator>
  <dc:description/>
  <dc:language>en-US</dc:language>
  <cp:lastModifiedBy>Aimee St. Hilaire</cp:lastModifiedBy>
  <dcterms:modified xsi:type="dcterms:W3CDTF">2012-03-26T17:14:11Z</dcterms:modified>
  <cp:revision>6</cp:revision>
  <dc:subject/>
  <dc:title>Interpersonal and Communication Process</dc:title>
</cp:coreProperties>
</file>